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ush.wav" ContentType="audio/x-wav"/>
  <Override PartName="/ppt/media/suction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C61-FFE0-48C6-B02B-FFF95304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80D-2C6D-482C-8A9D-8CA6EFD6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4F4C-67A6-4398-B7F6-B4ED5131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B15-9FEB-4D6A-844A-BA59DAE0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D6C-159B-4B40-B596-9F09F53B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C3EB-DA47-4A11-9558-A697A8DF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D05-08A9-4471-8A22-5314263E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45E-9ADF-4B51-96CA-989A9658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FF8-DEF7-4168-BF6F-5D025FC6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79D-C45C-4DE5-B886-0BFB3661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839-3631-4FC0-B276-C2B553B8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ECA-D22B-4C18-B19E-F8B0370C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EAE1-55C0-4936-A5BA-7DFFA293C23C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suction.wav"/><Relationship Id="rId3" Type="http://schemas.openxmlformats.org/officeDocument/2006/relationships/audio" Target="../media/wind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PRI – Course on Concurr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Probabilistic methods in Concurren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and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http://pauillac.inria.fr/~leifer/teaching/mpri-concurrency-2004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0E1-557A-4F11-A741-C59C146795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-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1360" y="2099880"/>
            <a:ext cx="775044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In this proof we will use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A6B-D84D-4923-959B-9FEFE0177B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44600" y="134424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4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s and actions in the algorithm of Lehmann and Rabi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438120" y="2611440"/>
            <a:ext cx="6810480" cy="184320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73920" y="3162240"/>
            <a:ext cx="184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81840" y="3324240"/>
            <a:ext cx="1121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27C-5703-48A1-8B02-E736966D06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 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41400"/>
            <a:ext cx="8380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8C92-AA78-4CC7-88AD-DFE9D1A7C2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deadlock freedom for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we can conclude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A3E-AB63-404C-9924-E889602A1B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7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7200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2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547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547200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5472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547200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5472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5028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502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2A2-771C-4C0A-B7B0-E5C41E880E2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very mixed choice is translated into a parallel comp. of processes corresponding to the branches, plus a lock f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162-4F6B-49D6-901F-7A54FFD4C54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0066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5100"/>
                </a:solidFill>
                <a:latin typeface="Comic Sans MS"/>
              </a:rPr>
              <a:t>Problem 1 however can be solved easily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6004b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B3D-D4F1-43AD-8005-3CE60D23B9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3400" y="182088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goto 3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F00-B472-48B5-9563-0B932FB7201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950156"/>
                </a:solidFill>
                <a:latin typeface="Comic Sans MS"/>
              </a:rPr>
              <a:t>modified so to eliminate the need of fairn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3400" y="182088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</a:t>
            </a:r>
            <a:r>
              <a:rPr b="0" lang="en-US" sz="2100" spc="-1" strike="noStrike">
                <a:solidFill>
                  <a:srgbClr val="950156"/>
                </a:solidFill>
                <a:latin typeface="Comic Sans MS"/>
              </a:rPr>
              <a:t>wa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50156"/>
                </a:solidFill>
                <a:latin typeface="Comic Sans MS"/>
              </a:rPr>
              <a:t>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AAE-5F09-44BF-835C-78B13A9A7A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lling the gap between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alculus and the asynchr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calculus is strictly more expressive than the asynchronou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calculus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On the other hand, the asynchronous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-calculus can be implemented in a distributed way while the (synchronous) 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-calculus canno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167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It is possible to enrich the asynchronous </a:t>
            </a:r>
            <a:r>
              <a:rPr b="0" lang="en-US" sz="2000" spc="-1" strike="noStrike">
                <a:solidFill>
                  <a:srgbClr val="167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-calculus with a mechanism of probabilistic (internal) choice so to achieve the same expressive power than the </a:t>
            </a:r>
            <a:r>
              <a:rPr b="0" lang="en-US" sz="2000" spc="-1" strike="noStrike">
                <a:solidFill>
                  <a:srgbClr val="167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-calculu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The idea is to implement the mixed choice construct via a randomized algorithm which is based on an extension of the solution of Lehmann and Rabin to the Dining Philosopher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32D-84A5-427F-8B42-0088DE4077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related to generic 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15159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 the general case, Each fork can be shared by more than two philosophers</a:t>
            </a:r>
            <a:r>
              <a:rPr b="0" lang="en-US" sz="1800" spc="-1" strike="noStrike">
                <a:solidFill>
                  <a:srgbClr val="333399"/>
                </a:solidFill>
                <a:latin typeface="Webdings"/>
                <a:ea typeface="Web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41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73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014-E1A5-4D88-A42C-906B2A0A7A8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ing philosophers on generic 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algorithm of Lehmann and Rabin is deadlock-free if and only if all cycles are pairwise disconnected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167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7600"/>
                </a:solidFill>
                <a:latin typeface="Comic Sans MS"/>
              </a:rPr>
              <a:t>There are essentially three ways in which two cycles can be connected: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4973760"/>
            <a:ext cx="533520" cy="0"/>
          </a:xfrm>
          <a:prstGeom prst="line">
            <a:avLst/>
          </a:prstGeom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66884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60440" y="52801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4680" y="49338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80960" y="46101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38440" y="46148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33560" y="4948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47800" y="52736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67040" y="4964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52894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33720" y="5281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1800" y="49467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54240" y="46134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46069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70320" y="494172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35440" y="46022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27720" y="495936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30800" y="46324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4638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1320" y="5292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5308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37160" y="494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32640" y="46162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54640" y="4611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58080" y="4948200"/>
            <a:ext cx="8856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95800" y="46134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81560" y="4948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06960" y="52722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38680" y="5288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91360" y="494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83280" y="45975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07240" y="49309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32640" y="52862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32680" y="52833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10280" y="528336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6BB-FE7F-43BB-A4F3-7AF7D2577DD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If part)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60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600a0"/>
                </a:solidFill>
                <a:latin typeface="Comic Sans MS"/>
              </a:rPr>
              <a:t>Only if part)</a:t>
            </a:r>
            <a:r>
              <a:rPr b="0" lang="en-US" sz="2000" spc="-1" strike="noStrike">
                <a:solidFill>
                  <a:srgbClr val="7600a0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66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7a5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24200" y="4443480"/>
            <a:ext cx="88920" cy="1062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5760" y="4968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75000" y="44496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11240" y="548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84600" y="49798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90840" y="54738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81560" y="4457880"/>
            <a:ext cx="88920" cy="885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33640" y="44546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37000" y="499104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38680" y="548172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81560" y="547200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75320" y="4981680"/>
            <a:ext cx="88920" cy="88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7a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278-E06C-479F-AA10-352BDC995AE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of of the theorem (only-if par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7a5100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) its “stubborness” at every round.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5015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With a suitable choice of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167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and </a:t>
            </a:r>
            <a:r>
              <a:rPr b="1" lang="en-US" sz="2000" spc="-1" strike="noStrike">
                <a:solidFill>
                  <a:srgbClr val="1676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950156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21A-E1F1-49C5-9573-888C81A475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tion for the DP on generic graph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However, it is easy to modify the algorithm so that it works in general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7a51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8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950156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950156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50156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870-2515-4D9D-ABB9-A1877C6C634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153120" y="2133720"/>
            <a:ext cx="271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Comic Sans MS"/>
              </a:rPr>
              <a:t>Reduction to the classic case: each fork is initially associated with a to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tion for the DP on generic graph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01480" y="2030040"/>
            <a:ext cx="5037120" cy="3882600"/>
            <a:chOff x="501480" y="2030040"/>
            <a:chExt cx="5037120" cy="3882600"/>
          </a:xfrm>
        </p:grpSpPr>
        <p:sp>
          <p:nvSpPr>
            <p:cNvPr id="304" name=""/>
            <p:cNvSpPr/>
            <p:nvPr/>
          </p:nvSpPr>
          <p:spPr>
            <a:xfrm>
              <a:off x="2544480" y="382104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474880" y="4422240"/>
              <a:ext cx="180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93880" y="438912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17520" y="2425680"/>
              <a:ext cx="1440" cy="306180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3920" y="4485960"/>
              <a:ext cx="21636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017520" y="4485960"/>
              <a:ext cx="2165400" cy="10015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853920" y="2425680"/>
              <a:ext cx="2163600" cy="20599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7520" y="2425680"/>
              <a:ext cx="2165400" cy="20599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45920" y="30128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90760" y="5175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90760" y="30128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77800" y="517356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3920" y="4485960"/>
              <a:ext cx="4329000" cy="1440"/>
            </a:xfrm>
            <a:prstGeom prst="line">
              <a:avLst/>
            </a:prstGeom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30280" y="4043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016080" y="5719320"/>
              <a:ext cx="144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46240" y="571968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82120" y="4388760"/>
              <a:ext cx="180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1480" y="435600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017520" y="2030040"/>
              <a:ext cx="1440" cy="193320"/>
            </a:xfrm>
            <a:prstGeom prst="line">
              <a:avLst/>
            </a:prstGeom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44440" y="203040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760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4480" y="40287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1073600">
              <a:off x="2966760" y="418140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4467600">
              <a:off x="2871720" y="42602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8067200">
              <a:off x="2768760" y="40899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3974600">
              <a:off x="2853720" y="39567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85680" y="4240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1073600">
              <a:off x="2814480" y="426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4467600">
              <a:off x="2701440" y="414144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8067200">
              <a:off x="2695680" y="408996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3974600">
              <a:off x="2669400" y="42598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19000" y="3848040"/>
              <a:ext cx="792360" cy="810720"/>
            </a:xfrm>
            <a:prstGeom prst="ellipse">
              <a:avLst/>
            </a:prstGeom>
            <a:noFill/>
            <a:ln w="9360">
              <a:solidFill>
                <a:srgbClr val="760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540160" y="3827520"/>
            <a:ext cx="33624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472000" y="4429080"/>
            <a:ext cx="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89560" y="4395960"/>
            <a:ext cx="14436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13200" y="2432160"/>
            <a:ext cx="1440" cy="306216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49240" y="4492800"/>
            <a:ext cx="2163960" cy="100152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013200" y="4492800"/>
            <a:ext cx="2165400" cy="100152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49240" y="2432160"/>
            <a:ext cx="2163960" cy="206064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13200" y="2432160"/>
            <a:ext cx="2165400" cy="206064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41600" y="301932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86080" y="518148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86080" y="301932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73120" y="518004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ff66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9240" y="4492800"/>
            <a:ext cx="4329360" cy="1440"/>
          </a:xfrm>
          <a:prstGeom prst="line">
            <a:avLst/>
          </a:prstGeom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25960" y="4049640"/>
            <a:ext cx="336240" cy="31284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011400" y="5726160"/>
            <a:ext cx="180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41560" y="5726160"/>
            <a:ext cx="14472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77800" y="4395960"/>
            <a:ext cx="180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6800" y="4362480"/>
            <a:ext cx="144720" cy="13032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013200" y="2036880"/>
            <a:ext cx="1440" cy="193680"/>
          </a:xfrm>
          <a:prstGeom prst="line">
            <a:avLst/>
          </a:prstGeom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40120" y="2036880"/>
            <a:ext cx="144360" cy="1299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09800" y="403560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1073600">
            <a:off x="2962080" y="41878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4467600">
            <a:off x="2866680" y="42670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8067200">
            <a:off x="2763360" y="409680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3974600">
            <a:off x="2849400" y="396396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81360" y="424656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1073600">
            <a:off x="2809800" y="427176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4467600">
            <a:off x="2696760" y="414828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8067200">
            <a:off x="2690640" y="4097520"/>
            <a:ext cx="395280" cy="169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3974600">
            <a:off x="2665440" y="4266720"/>
            <a:ext cx="395280" cy="169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cc"/>
          </a:solidFill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14680" y="3854520"/>
            <a:ext cx="792000" cy="811080"/>
          </a:xfrm>
          <a:prstGeom prst="ellipse">
            <a:avLst/>
          </a:prstGeom>
          <a:noFill/>
          <a:ln w="9360">
            <a:solidFill>
              <a:srgbClr val="760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5484960"/>
            <a:ext cx="158760" cy="16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07040" y="4511520"/>
            <a:ext cx="158760" cy="16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06800" y="2306520"/>
            <a:ext cx="158760" cy="16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19280" y="4254480"/>
            <a:ext cx="158760" cy="160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46280" y="3821040"/>
            <a:ext cx="336600" cy="31284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17880" y="2416320"/>
            <a:ext cx="1440" cy="30621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518328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008160" y="4486320"/>
            <a:ext cx="2165400" cy="10015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301320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19320" y="2425680"/>
            <a:ext cx="2165400" cy="2060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44480" y="3013200"/>
            <a:ext cx="336600" cy="312480"/>
          </a:xfrm>
          <a:prstGeom prst="smileyFace">
            <a:avLst>
              <a:gd name="adj" fmla="val 9282"/>
            </a:avLst>
          </a:prstGeom>
          <a:solidFill>
            <a:srgbClr val="009999"/>
          </a:solidFill>
          <a:ln w="9360">
            <a:solidFill>
              <a:srgbClr val="76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865080" y="2427120"/>
            <a:ext cx="2163960" cy="2060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32600" y="3278160"/>
            <a:ext cx="27558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Each phil needs to acquire a token in order to participate to the competition. The competing phils determine a set of subgraphs in which each subgraph contains at most one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0591-DCB4-4C95-9EE7-133C61DBA42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animMotion origin="layout" path="M 0.0073 -2.59259E-006 C -0.00746 -0.01227 -0.02204 -0.02453 -0.02395 -0.03865 C -0.02586 -0.05278 0.00018 -0.06528 -0.00434 -0.08518 C -0.00885 -0.10509 -0.05 -0.13426 -0.05086 -0.1581 C -0.05173 -0.18194 -0.0309 -0.20486 -0.01007 -0.22778 E">
                                      <p:cBhvr>
                                        <p:cTn id="262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animMotion origin="layout" path="M 0.00365 -4.44444E-006 C 0.00799 0.03264 0.01233 0.06528 0.00591 0.07292 C -0.00052 0.08056 -0.01893 0.04213 -0.03473 0.04653 C -0.05052 0.05093 -0.07968 0.09005 -0.0894 0.09908 E">
                                      <p:cBhvr>
                                        <p:cTn id="277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Motion origin="layout" path="M 0.00034 -0.0007 C 0.03611 -0.04491 0.07187 -0.08889 0.0783 -0.08125 C 0.08472 -0.07361 0.0342 0.02777 0.03871 0.04583 C 0.04323 0.06389 0.08958 0.01643 0.10503 0.02731 C 0.12048 0.03819 0.12725 0.09652 0.13177 0.11111 E">
                                      <p:cBhvr>
                                        <p:cTn id="294" dur="1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animMotion origin="layout" path="M -1.66667E-006 5.18519E-006 C 0.0059 -0.02337 0.0118 -0.04675 0.01736 -0.05439 C 0.02291 -0.06203 0.02587 -0.04143 0.03368 -0.04652 C 0.04149 -0.05161 0.06423 -0.07383 0.06389 -0.08541 C 0.06354 -0.09698 0.03385 -0.10231 0.03142 -0.11643 C 0.02899 -0.13055 0.03871 -0.16457 0.04878 -0.17059 C 0.05885 -0.17661 0.08246 -0.15346 0.09184 -0.15207 C 0.10121 -0.15069 0.1026 -0.16087 0.10469 -0.16272 E">
                                      <p:cBhvr>
                                        <p:cTn id="315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DBC-338C-4A4A-8DDD-D2849E2D3A4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1920" y="1441440"/>
            <a:ext cx="818532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Starvation freedom: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omic Sans MS"/>
              </a:rPr>
              <a:t>Robustness wrt a large class of adversaries: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 Adversaries decide who does the next move (schedulers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8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86600"/>
                </a:solidFill>
                <a:latin typeface="Comic Sans MS"/>
              </a:rPr>
              <a:t>Fully distributed:</a:t>
            </a:r>
            <a:r>
              <a:rPr b="0" lang="en-US" sz="2000" spc="-1" strike="noStrike">
                <a:solidFill>
                  <a:srgbClr val="386600"/>
                </a:solidFill>
                <a:latin typeface="Comic Sans MS"/>
              </a:rPr>
              <a:t> no centralized control or memo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5028"/>
                </a:solidFill>
                <a:latin typeface="Comic Sans MS"/>
              </a:rPr>
              <a:t>Symmetric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All philosophers run the same code and are in the same initial sta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78502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5028"/>
                </a:solidFill>
                <a:latin typeface="Comic Sans MS"/>
              </a:rPr>
              <a:t>The same holds for the fork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B53-6693-4A34-BDC0-9B8DA7A197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a51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5100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7a5100"/>
                </a:solidFill>
                <a:latin typeface="Comic Sans MS"/>
              </a:rPr>
              <a:t>  Francez and Rodeh did propose a  “deterministic” solution using CSP, similar to the solution in CCS seen in Lecture 6. The explana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9CD-AAE7-404E-BB79-F2654D4020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404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83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andomly choose fork in {left, right}   %commi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n(fork)  then goto 3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if take(other(fork))  then {release(fork); goto 2}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1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A99-1286-4FEA-B562-88447BA130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812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120" y="1918800"/>
            <a:ext cx="826308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Proof</a:t>
            </a: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 The original proof is not fully formalized and it is difficult to follow. There is a proof by Segala and Lynch, using progress statements, which is easier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b5425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5425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7b5425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A0F-A4C0-4B4A-8F86-5EB87BF354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 formal method to analyze probabilistic algorithm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omic Sans MS"/>
              </a:rPr>
              <a:t>Definition (progress statements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Given sets of states S, T, and a class of adversaries A, we wri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S –A,p-&gt; 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if, under any adversary in A, from any state in S, we eventually reach a state in T with probability at least p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Furthermore, we wri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S unless 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F3B-B91B-4FD7-9A50-3BF3E5D2E7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f for every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 and every execution fragment e, there exists an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 such that for every execution fragment e’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ee’) =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(e’) hold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roposition: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The class of fair adversaries is history-insensitiv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50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5028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s fair, then for every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, the adversary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defined as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’(e’) =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ee’)</a:t>
            </a:r>
            <a:r>
              <a:rPr b="0" lang="en-US" sz="2400" spc="-1" strike="noStrike">
                <a:solidFill>
                  <a:srgbClr val="785028"/>
                </a:solidFill>
                <a:latin typeface="Comic Sans MS"/>
              </a:rPr>
              <a:t> is still fair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186-E1EC-47EF-BAB7-B943641876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PS, 13 Jan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5-01-31T20:59:47Z</dcterms:modified>
  <cp:revision>141</cp:revision>
  <dc:subject/>
  <dc:title>Concurrency 5</dc:title>
</cp:coreProperties>
</file>