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suction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8A6-08E7-4C80-A707-0583BC8D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AA1-EB6F-4716-A8DF-49687DC8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1D7-E92F-4733-B98E-4C723412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52A-F797-4082-8AF9-CF1D8807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0E3-2A19-4A14-B5CB-CD804A73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CD6-5150-4F8E-8470-64B3C2DB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09B-7AB0-43DE-8513-2816F55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BE7-CC10-4A9E-883F-B44F855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F7F-CA5D-48DA-87FB-B4FDD92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C49-01F6-485F-B5DF-F08643E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2FF-DBB7-4DA9-A1FE-7D9FB05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5EF-8BB5-4B71-9DBD-8A2B69CF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4882-0D0F-44A5-A8C7-3B032C56E6EB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suction.wav"/><Relationship Id="rId3" Type="http://schemas.openxmlformats.org/officeDocument/2006/relationships/audio" Target="../media/wind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PRI – Course on Concurr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robabilistic methods in Concurr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and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ttp://pauillac.inria.fr/~leifer/teaching/mpri-concurrency-2004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89E-523C-4634-91CF-8094C39B2E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-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1360" y="2099880"/>
            <a:ext cx="77504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In this proof we will use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6AE-2598-4485-AD46-53FB9F3A82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44600" y="13442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4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and actions in the algorithm of Lehmann and Rabi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38120" y="2611440"/>
            <a:ext cx="6810480" cy="1843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3920" y="3162240"/>
            <a:ext cx="184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1840" y="3324240"/>
            <a:ext cx="112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570-301D-4D9F-9A44-4DF0025D11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41400"/>
            <a:ext cx="8380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98B-4602-4350-8F14-4238349AEC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we can conclud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AAE-F690-42CF-BC6B-241A01B09B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7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200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CB1-571B-4419-AEFB-5D7074E3B0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very mixed choice is translated into a parallel comp. of processes corresponding to the branches, plus a lock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E67-4B9A-4B5A-9D0F-7E0392702F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5100"/>
                </a:solidFill>
                <a:latin typeface="Comic Sans MS"/>
              </a:rPr>
              <a:t>Problem 1 however can be solved easily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6004b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726-32DC-4ECE-8D9E-3B63039085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E89-08A6-4CCF-A001-5565ED3769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950156"/>
                </a:solidFill>
                <a:latin typeface="Comic Sans MS"/>
              </a:rPr>
              <a:t>modified so to eliminate the need of fair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</a:t>
            </a: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wa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250-87C9-4C30-B8BE-E43BD0F9FD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ling the gap between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 and the asynchr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is strictly more expressive than the asynchronou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On the other hand, the asynchronous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 be implemented in a distributed way while the (synchronous)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no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It is possible to enrich the asynchronous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 with a mechanism of probabilistic (internal) choice so to achieve the same expressive power than the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The idea is to implement the mixed choice construct via a randomized algorithm which is based on an extension of the solution of Lehmann and Rabin to the Dining Philosoph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443-07A9-4FE6-94D1-3C83CC296F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elated to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15159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the general case, Each fork can be shared by more than two philosophers</a:t>
            </a:r>
            <a:r>
              <a:rPr b="0" lang="en-US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41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73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0FD-9F22-44F0-950D-9F0B1BD153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ing philosophers on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algorithm of Lehmann and Rabin is deadlock-free if and only if all cycles are pairwise disconnected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7600"/>
                </a:solidFill>
                <a:latin typeface="Comic Sans MS"/>
              </a:rPr>
              <a:t>There are essentially three ways in which two cycles can be connected: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973760"/>
            <a:ext cx="533520" cy="0"/>
          </a:xfrm>
          <a:prstGeom prst="line">
            <a:avLst/>
          </a:prstGeom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66884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60440" y="52801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4680" y="493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80960" y="46101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38440" y="46148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33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47800" y="5273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7040" y="4964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5289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3720" y="5281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1800" y="49467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424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4606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70320" y="494172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35440" y="4602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27720" y="495936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30800" y="4632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638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1320" y="5292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308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371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32640" y="46162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4611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494820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580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81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6960" y="5272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38680" y="5288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3280" y="4597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7240" y="4930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2640" y="5286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26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8B4-8F89-41E0-819D-6E8AEA2DF3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f part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60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a0"/>
                </a:solidFill>
                <a:latin typeface="Comic Sans MS"/>
              </a:rPr>
              <a:t>Only if part)</a:t>
            </a:r>
            <a:r>
              <a:rPr b="0" lang="en-US" sz="2000" spc="-1" strike="noStrike">
                <a:solidFill>
                  <a:srgbClr val="7600a0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66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4443480"/>
            <a:ext cx="88920" cy="1062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5760" y="4968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75000" y="4449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1124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84600" y="49798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90840" y="547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1560" y="4457880"/>
            <a:ext cx="88920" cy="885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33640" y="4454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7000" y="4991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3868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81560" y="54720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5320" y="49816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55F-89FC-40C0-B56A-42D493CE0F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of of the theorem (only-if par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7a5100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) its “stubborness” at every round.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5015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With a suitable choice of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and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927-11C2-4E0A-8913-26F2D8FB0F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However, it is easy to modify the algorithm so that it works in general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7a51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950156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53C-F4AF-44F4-8864-7E595C800E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53120" y="2133720"/>
            <a:ext cx="27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Comic Sans MS"/>
              </a:rPr>
              <a:t>Reduction to the classic case: each fork is initially associated with a to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01480" y="2030040"/>
            <a:ext cx="5037120" cy="3882600"/>
            <a:chOff x="501480" y="2030040"/>
            <a:chExt cx="5037120" cy="3882600"/>
          </a:xfrm>
        </p:grpSpPr>
        <p:sp>
          <p:nvSpPr>
            <p:cNvPr id="304" name=""/>
            <p:cNvSpPr/>
            <p:nvPr/>
          </p:nvSpPr>
          <p:spPr>
            <a:xfrm>
              <a:off x="2544480" y="382104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74880" y="442224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3880" y="438912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17520" y="2425680"/>
              <a:ext cx="1440" cy="306180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3920" y="448596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017520" y="448596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53920" y="2425680"/>
              <a:ext cx="21636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7520" y="2425680"/>
              <a:ext cx="21654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4592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90760" y="5175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9076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7800" y="517356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3920" y="448596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30280" y="4043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016080" y="571932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46240" y="571968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82120" y="438876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1480" y="435600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17520" y="203004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4440" y="203040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4480" y="40287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1073600">
              <a:off x="2966760" y="418140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467600">
              <a:off x="2871720" y="42602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067200">
              <a:off x="276876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974600">
              <a:off x="2853720" y="39567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5680" y="4240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1073600">
              <a:off x="2814480" y="426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467600">
              <a:off x="2701440" y="414144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067200">
              <a:off x="269568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74600">
              <a:off x="2669400" y="42598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19000" y="3848040"/>
              <a:ext cx="792360" cy="81072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40160" y="382752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4429080"/>
            <a:ext cx="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9560" y="439596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3200" y="2432160"/>
            <a:ext cx="1440" cy="306216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9240" y="4492800"/>
            <a:ext cx="216396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13200" y="4492800"/>
            <a:ext cx="216540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49240" y="2432160"/>
            <a:ext cx="216396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13200" y="2432160"/>
            <a:ext cx="216540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4160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518148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8608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3120" y="5180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492800"/>
            <a:ext cx="4329360" cy="1440"/>
          </a:xfrm>
          <a:prstGeom prst="line">
            <a:avLst/>
          </a:prstGeom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5960" y="404964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011400" y="57261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1560" y="5726160"/>
            <a:ext cx="14472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7800" y="43959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6800" y="4362480"/>
            <a:ext cx="144720" cy="13032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13200" y="2036880"/>
            <a:ext cx="144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40120" y="203688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9800" y="403560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1073600">
            <a:off x="2962080" y="41878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4467600">
            <a:off x="2866680" y="42670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8067200">
            <a:off x="2763360" y="409680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974600">
            <a:off x="2849400" y="39639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24656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1073600">
            <a:off x="2809800" y="42717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4467600">
            <a:off x="2696760" y="41482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8067200">
            <a:off x="2690640" y="409752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3974600">
            <a:off x="2665440" y="426672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14680" y="3854520"/>
            <a:ext cx="792000" cy="811080"/>
          </a:xfrm>
          <a:prstGeom prst="ellipse">
            <a:avLst/>
          </a:prstGeom>
          <a:noFill/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548496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7040" y="4511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06800" y="2306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9280" y="425448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46280" y="3821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17880" y="2416320"/>
            <a:ext cx="1440" cy="3062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18328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008160" y="4486320"/>
            <a:ext cx="2165400" cy="10015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9320" y="2425680"/>
            <a:ext cx="216540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4448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65080" y="2427120"/>
            <a:ext cx="216396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2600" y="3278160"/>
            <a:ext cx="2755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ach phil needs to acquire a token in order to participate to the competition. The competing phils determine a set of subgraphs in which each subgraph contains at most on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A5A-CA78-42BE-9CD3-EAAD457D1B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Motion origin="layout" path="M 0.0073 -2.59259E-006 C -0.00746 -0.01227 -0.02204 -0.02453 -0.02395 -0.03865 C -0.02586 -0.05278 0.00018 -0.06528 -0.00434 -0.08518 C -0.00885 -0.10509 -0.05 -0.13426 -0.05086 -0.1581 C -0.05173 -0.18194 -0.0309 -0.20486 -0.01007 -0.22778 E">
                                      <p:cBhvr>
                                        <p:cTn id="26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0.00365 -4.44444E-006 C 0.00799 0.03264 0.01233 0.06528 0.00591 0.07292 C -0.00052 0.08056 -0.01893 0.04213 -0.03473 0.04653 C -0.05052 0.05093 -0.07968 0.09005 -0.0894 0.09908 E">
                                      <p:cBhvr>
                                        <p:cTn id="2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0.00034 -0.0007 C 0.03611 -0.04491 0.07187 -0.08889 0.0783 -0.08125 C 0.08472 -0.07361 0.0342 0.02777 0.03871 0.04583 C 0.04323 0.06389 0.08958 0.01643 0.10503 0.02731 C 0.12048 0.03819 0.12725 0.09652 0.13177 0.11111 E">
                                      <p:cBhvr>
                                        <p:cTn id="294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animMotion origin="layout" path="M -1.66667E-006 5.18519E-006 C 0.0059 -0.02337 0.0118 -0.04675 0.01736 -0.05439 C 0.02291 -0.06203 0.02587 -0.04143 0.03368 -0.04652 C 0.04149 -0.05161 0.06423 -0.07383 0.06389 -0.08541 C 0.06354 -0.09698 0.03385 -0.10231 0.03142 -0.11643 C 0.02899 -0.13055 0.03871 -0.16457 0.04878 -0.17059 C 0.05885 -0.17661 0.08246 -0.15346 0.09184 -0.15207 C 0.10121 -0.15069 0.1026 -0.16087 0.10469 -0.16272 E">
                                      <p:cBhvr>
                                        <p:cTn id="31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416-E177-4D1B-8D71-4D5D1E14DA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920" y="1441440"/>
            <a:ext cx="818532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tarvation freedom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Robustness wrt a large class of adversaries: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Adversaries decide who does the next move (scheduler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8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86600"/>
                </a:solidFill>
                <a:latin typeface="Comic Sans MS"/>
              </a:rPr>
              <a:t>Fully distributed:</a:t>
            </a:r>
            <a:r>
              <a:rPr b="0" lang="en-US" sz="2000" spc="-1" strike="noStrike">
                <a:solidFill>
                  <a:srgbClr val="386600"/>
                </a:solidFill>
                <a:latin typeface="Comic Sans MS"/>
              </a:rPr>
              <a:t> no centralized control or memo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Symmetric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All philosophers run the same code and are in the same initial sta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The same holds for the fork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913-73CC-436E-94DA-55B070317D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5100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 Francez and Rodeh did propose a  “deterministic” solution using CSP, similar to the solution in CCS seen in Lecture 6. The explana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845-27BC-45BB-860A-082416A017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40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FD9-AFB2-4D66-AEC0-948851B07F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812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120" y="1918800"/>
            <a:ext cx="82630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Proof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The original proof is not fully formalized and it is difficult to follow. There is a proof by Segala and Lynch, using progress statements, which is easier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b542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5425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7b5425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AB6-6A8A-467A-A075-AA2154D862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formal method to analyze probabilistic algorithm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Definition (progress statement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Given sets of states S, T, and a class of adversaries A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–A,p-&gt;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under any adversary in A, from any state in S, we eventually reach a state in T with probability at least p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Furthermore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unless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B57-FE15-491F-9316-9DF0F4C2AB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f for every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and every execution fragment e, there exists an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such that for every execution fragment e’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hold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roposition: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The class of fair adversaries is history-insensitiv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fair, then for every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, the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defined as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still fair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5B6-DAAC-4B88-A5AB-A15030D5DE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5-01-31T20:59:47Z</dcterms:modified>
  <cp:revision>141</cp:revision>
  <dc:subject/>
  <dc:title>Concurrency 5</dc:title>
</cp:coreProperties>
</file>