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291638"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42778-E13B-401D-83ED-238A03AE4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82DD-22AC-44CF-B894-8B10E381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5458-C05A-4531-AAD7-00E2389D7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ED26C-71D9-4B0B-84B6-E2C8CCBC4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6D4C6-3263-4686-A3E7-BBE78637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80B4-8EEA-4309-AD58-D1E1D213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80883-09B5-4B97-9B95-06E20F81F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0E4F0-A369-4E17-852B-CFA80998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7725-9E62-4CF1-A8AC-7149AA19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7B57-837A-4B5B-95CD-AFB3CFA5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9DC3-3296-4033-ABD5-D7D51F8D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5895-D9FA-4801-B820-CDEC84F7A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7ACD-4258-45A9-8E6E-001B68900239}"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s 11 and 12</a:t>
            </a:r>
            <a:br>
              <a:rPr sz="3600"/>
            </a:br>
            <a:r>
              <a:rPr b="0" lang="en-US" sz="3600" spc="-1" strike="noStrike">
                <a:solidFill>
                  <a:srgbClr val="cc0066"/>
                </a:solidFill>
                <a:latin typeface="Comic Sans MS"/>
              </a:rPr>
              <a:t>The pi-calculus expressiveness hierarchy</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9DC98B3-B274-496A-8E9C-CCE71C8D3D00}"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8882F97-6BB5-4D26-91DE-5AC7C77EB6E6}"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ic</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5800" indent="-32580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6100D45-EE4E-4CB4-B753-5CE0708E802F}"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126" name=""/>
          <p:cNvSpPr/>
          <p:nvPr/>
        </p:nvSpPr>
        <p:spPr>
          <a:xfrm>
            <a:off x="2958480" y="33908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Palamidessi</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F47B7699-2DB9-4B43-AD46-8B92AF1627FC}"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8"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E8F32DE-BD7B-49EF-86CD-C944DD16FDB2}"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30"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1"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2"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2F097E56-4F08-4928-B4F5-640E1C5F1FA3}"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7"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fontScale="88000"/>
          </a:bodyPr>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01680" indent="-3016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pic>
        <p:nvPicPr>
          <p:cNvPr id="138" name="" descr=""/>
          <p:cNvPicPr/>
          <p:nvPr/>
        </p:nvPicPr>
        <p:blipFill>
          <a:blip r:embed="rId1"/>
          <a:stretch/>
        </p:blipFill>
        <p:spPr>
          <a:xfrm>
            <a:off x="1384200" y="3851280"/>
            <a:ext cx="5943600" cy="812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260AAFA-2566-4983-838B-83DFB87E9DD0}"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41"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3" name=""/>
          <p:cNvCxnSpPr>
            <a:stCxn id="141" idx="7"/>
            <a:endCxn id="142"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4" name=""/>
          <p:cNvCxnSpPr>
            <a:stCxn id="142" idx="3"/>
            <a:endCxn id="141"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5"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6"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7"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8"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9"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0532843-2EF6-4FF2-9906-144D2D0A2E61}"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738154C-1187-4EF6-95E0-3C92520104A7}"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4" name=""/>
          <p:cNvGrpSpPr/>
          <p:nvPr/>
        </p:nvGrpSpPr>
        <p:grpSpPr>
          <a:xfrm>
            <a:off x="3381480" y="4043520"/>
            <a:ext cx="1990800" cy="1836360"/>
            <a:chOff x="3381480" y="4043520"/>
            <a:chExt cx="1990800" cy="1836360"/>
          </a:xfrm>
        </p:grpSpPr>
        <p:sp>
          <p:nvSpPr>
            <p:cNvPr id="155"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429A254-6CBD-4A8B-B874-D17A3B494248}"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69710F38-3E65-44B1-89B0-9E66E3E3B619}"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4"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5"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2820960" y="2287440"/>
            <a:ext cx="3539880" cy="3439800"/>
            <a:chOff x="2820960" y="2287440"/>
            <a:chExt cx="3539880" cy="3439800"/>
          </a:xfrm>
        </p:grpSpPr>
        <p:sp>
          <p:nvSpPr>
            <p:cNvPr id="168"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3125520" y="2592360"/>
            <a:ext cx="2878200" cy="2895120"/>
            <a:chOff x="3125520" y="2592360"/>
            <a:chExt cx="2878200" cy="2895120"/>
          </a:xfrm>
        </p:grpSpPr>
        <p:cxnSp>
          <p:nvCxnSpPr>
            <p:cNvPr id="177"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8"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9"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80" name=""/>
          <p:cNvGrpSpPr/>
          <p:nvPr/>
        </p:nvGrpSpPr>
        <p:grpSpPr>
          <a:xfrm>
            <a:off x="3125520" y="2592000"/>
            <a:ext cx="3043440" cy="2738160"/>
            <a:chOff x="3125520" y="2592000"/>
            <a:chExt cx="3043440" cy="2738160"/>
          </a:xfrm>
        </p:grpSpPr>
        <p:cxnSp>
          <p:nvCxnSpPr>
            <p:cNvPr id="181"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2"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3"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4" name=""/>
          <p:cNvGrpSpPr/>
          <p:nvPr/>
        </p:nvGrpSpPr>
        <p:grpSpPr>
          <a:xfrm>
            <a:off x="3201840" y="2592360"/>
            <a:ext cx="2878200" cy="2895120"/>
            <a:chOff x="3201840" y="2592360"/>
            <a:chExt cx="2878200" cy="2895120"/>
          </a:xfrm>
        </p:grpSpPr>
        <p:cxnSp>
          <p:nvCxnSpPr>
            <p:cNvPr id="185"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6"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7"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8" name=""/>
          <p:cNvGrpSpPr/>
          <p:nvPr/>
        </p:nvGrpSpPr>
        <p:grpSpPr>
          <a:xfrm>
            <a:off x="3125520" y="2669040"/>
            <a:ext cx="3043440" cy="2738160"/>
            <a:chOff x="3125520" y="2669040"/>
            <a:chExt cx="3043440" cy="2738160"/>
          </a:xfrm>
        </p:grpSpPr>
        <p:cxnSp>
          <p:nvCxnSpPr>
            <p:cNvPr id="189"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90"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91"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2"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3"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4" name=""/>
          <p:cNvGrpSpPr/>
          <p:nvPr/>
        </p:nvGrpSpPr>
        <p:grpSpPr>
          <a:xfrm>
            <a:off x="2820960" y="2287440"/>
            <a:ext cx="3539880" cy="3439800"/>
            <a:chOff x="2820960" y="2287440"/>
            <a:chExt cx="3539880" cy="3439800"/>
          </a:xfrm>
        </p:grpSpPr>
        <p:sp>
          <p:nvSpPr>
            <p:cNvPr id="195"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5"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6"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7"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44C3D42-7141-4926-B001-534135154ADF}"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7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6"/>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20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7"/>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499"/>
                                          </p:stCondLst>
                                        </p:cTn>
                                        <p:tgtEl>
                                          <p:spTgt spid="192"/>
                                        </p:tgtEl>
                                        <p:attrNameLst>
                                          <p:attrName>style.visibility</p:attrName>
                                        </p:attrNameLst>
                                      </p:cBhvr>
                                      <p:to>
                                        <p:strVal val="visible"/>
                                      </p:to>
                                    </p:se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0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05"/>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0"/>
                                  </p:stCondLst>
                                  <p:childTnLst>
                                    <p:set>
                                      <p:cBhvr>
                                        <p:cTn id="19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9"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10"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005A327-5735-40B1-810D-CF8681EFAC2A}"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5786451-BDCC-47B4-AF08-AC1ACAE929D4}"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second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 if we replace coupled bisimulation by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four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which makes the graph fully connected</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eneralize previous exercise to the case of n arbitrary nodes</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AF1D4CB-6E63-47E3-ACCB-9112F8178195}"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D86B2AC-68B0-428C-A5C6-9ABFE5347757}"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AC475F08-4F42-40BC-B7B8-0D0C5DB2B384}"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a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D06389C-F5B6-4B48-A243-B0C3DDC6C29A}"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D2F89C60-7505-4C07-BD99-BF8114155E75}"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EE72B112-2D17-4857-9830-716804362E9A}"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8A4FF65-11F5-4A0A-B2F8-FFAC4442209D}"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BD5A9D9-5D1C-4A1A-95C3-E904B0F6E90F}"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5-01-06T04:55:08Z</dcterms:modified>
  <cp:revision>111</cp:revision>
  <dc:subject/>
  <dc:title>Concurrency 5</dc:title>
</cp:coreProperties>
</file>