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31B52-F894-4BEE-A2F7-CAEDBE180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DB247-06B3-42D0-B622-2DDC34395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375B8-F4DA-47B2-8EA3-F4BAD97B9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BEC47-C46F-4238-9C3D-179EC6016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6564-11F3-4760-A2E6-1BA178B8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69C68-73F9-4574-8A15-0413BC73E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8CC79-EE49-469C-B257-95E35BBFE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009B1-048D-4A48-973D-C885C3746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84A6-8AB1-40BF-8BF5-B1AE2C5D7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A1BD-7250-4517-B71D-2B9C4F54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51E9-6964-4F53-99FE-04DCD0CDA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F59F-81AE-4585-8F0A-6F5E301DC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A61C-910C-4EAE-B9CA-DAEB391D1B88}"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s 11 and 12</a:t>
            </a:r>
            <a:br>
              <a:rPr sz="3600"/>
            </a:br>
            <a:r>
              <a:rPr b="0" lang="en-US" sz="3600" spc="-1" strike="noStrike">
                <a:solidFill>
                  <a:srgbClr val="cc0066"/>
                </a:solidFill>
                <a:latin typeface="Comic Sans MS"/>
              </a:rPr>
              <a:t>The pi-calculus expressiveness hierarchy</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2FB6350-19EB-4D62-A683-DE2B1F255AC4}"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2108290-8EAE-40DF-97F7-5499FD65FFEF}"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BF699A9-A283-428A-82D4-D906B2663BF7}"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126" name=""/>
          <p:cNvSpPr/>
          <p:nvPr/>
        </p:nvSpPr>
        <p:spPr>
          <a:xfrm>
            <a:off x="2958480" y="33908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Palamidessi</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E609A2E8-E183-4249-8621-FFE95E292954}"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8"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DACE8BB-FAC6-49B4-8CC7-533BE9FD5784}"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30"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1"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2"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6EB7C78-D8E3-4352-AABD-B0200805436B}"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7"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fontScale="88000"/>
          </a:bodyPr>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pic>
        <p:nvPicPr>
          <p:cNvPr id="138" name="" descr=""/>
          <p:cNvPicPr/>
          <p:nvPr/>
        </p:nvPicPr>
        <p:blipFill>
          <a:blip r:embed="rId1"/>
          <a:stretch/>
        </p:blipFill>
        <p:spPr>
          <a:xfrm>
            <a:off x="1384200" y="3851280"/>
            <a:ext cx="5943600" cy="812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27EC336-22FF-4C01-96D5-F02C2F2F8FAF}"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41"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7"/>
            <a:endCxn id="142"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4" name=""/>
          <p:cNvCxnSpPr>
            <a:stCxn id="142" idx="3"/>
            <a:endCxn id="141"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5"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6"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7"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8"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9"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864806D-5DE9-4A1A-9642-E25396598F09}"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B5560DE-BE23-48BD-BDC0-6FC997209376}"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4" name=""/>
          <p:cNvGrpSpPr/>
          <p:nvPr/>
        </p:nvGrpSpPr>
        <p:grpSpPr>
          <a:xfrm>
            <a:off x="3381480" y="4043520"/>
            <a:ext cx="1990800" cy="1836360"/>
            <a:chOff x="3381480" y="4043520"/>
            <a:chExt cx="1990800" cy="1836360"/>
          </a:xfrm>
        </p:grpSpPr>
        <p:sp>
          <p:nvSpPr>
            <p:cNvPr id="155"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7E87B48-A24F-4B51-AAD6-2BDABD898861}"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C51CF0E-118B-4E4A-8F01-203BF0FAB83A}"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4"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5"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2820960" y="2287440"/>
            <a:ext cx="3539880" cy="3439800"/>
            <a:chOff x="2820960" y="2287440"/>
            <a:chExt cx="3539880" cy="3439800"/>
          </a:xfrm>
        </p:grpSpPr>
        <p:sp>
          <p:nvSpPr>
            <p:cNvPr id="168"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3125520" y="2592360"/>
            <a:ext cx="2878200" cy="2895120"/>
            <a:chOff x="3125520" y="2592360"/>
            <a:chExt cx="2878200" cy="2895120"/>
          </a:xfrm>
        </p:grpSpPr>
        <p:cxnSp>
          <p:nvCxnSpPr>
            <p:cNvPr id="177"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8"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9"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80" name=""/>
          <p:cNvGrpSpPr/>
          <p:nvPr/>
        </p:nvGrpSpPr>
        <p:grpSpPr>
          <a:xfrm>
            <a:off x="3125520" y="2592000"/>
            <a:ext cx="3043440" cy="2738160"/>
            <a:chOff x="3125520" y="2592000"/>
            <a:chExt cx="3043440" cy="2738160"/>
          </a:xfrm>
        </p:grpSpPr>
        <p:cxnSp>
          <p:nvCxnSpPr>
            <p:cNvPr id="181"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2"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3"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4" name=""/>
          <p:cNvGrpSpPr/>
          <p:nvPr/>
        </p:nvGrpSpPr>
        <p:grpSpPr>
          <a:xfrm>
            <a:off x="3201840" y="2592360"/>
            <a:ext cx="2878200" cy="2895120"/>
            <a:chOff x="3201840" y="2592360"/>
            <a:chExt cx="2878200" cy="2895120"/>
          </a:xfrm>
        </p:grpSpPr>
        <p:cxnSp>
          <p:nvCxnSpPr>
            <p:cNvPr id="185"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6"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7"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8" name=""/>
          <p:cNvGrpSpPr/>
          <p:nvPr/>
        </p:nvGrpSpPr>
        <p:grpSpPr>
          <a:xfrm>
            <a:off x="3125520" y="2669040"/>
            <a:ext cx="3043440" cy="2738160"/>
            <a:chOff x="3125520" y="2669040"/>
            <a:chExt cx="3043440" cy="2738160"/>
          </a:xfrm>
        </p:grpSpPr>
        <p:cxnSp>
          <p:nvCxnSpPr>
            <p:cNvPr id="189"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90"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91"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2"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3"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4" name=""/>
          <p:cNvGrpSpPr/>
          <p:nvPr/>
        </p:nvGrpSpPr>
        <p:grpSpPr>
          <a:xfrm>
            <a:off x="2820960" y="2287440"/>
            <a:ext cx="3539880" cy="3439800"/>
            <a:chOff x="2820960" y="2287440"/>
            <a:chExt cx="3539880" cy="3439800"/>
          </a:xfrm>
        </p:grpSpPr>
        <p:sp>
          <p:nvSpPr>
            <p:cNvPr id="195"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5"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6"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7"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F0484A8-1DBD-4F04-833D-27846624D9B8}"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7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6"/>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20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7"/>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9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0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0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9"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10"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EC62C5A-4C0B-4DC1-B7D8-AFA9AECD9337}"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9B43F7B-820C-4F76-9365-7DCABE4A7B03}"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second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 if we replace coupled bisimulation by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which makes the graph fully connected</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eneralize previous exercise to the case of n arbitrary nodes</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CD82DD7-14C0-4867-97BB-9A32EEC81B60}"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5EE16FB-0F68-44B9-A3C8-86654279CDE1}"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35DCC26-A5BE-4E45-9150-C42CFA7CB1B2}"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a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82C239C-F54F-45F2-A8C3-E92D184BBF2B}"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A74D374-A3C5-4B13-A4A3-05662E99636F}"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52F47B4-A8A7-4F81-AA5C-7CCBF38C6E97}"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C8D2243-3BEB-420B-8734-9D0F3FF5A0C6}"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1AA2887-6ECD-43E1-B6DB-7A394E25851D}"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5-01-06T04:55:08Z</dcterms:modified>
  <cp:revision>111</cp:revision>
  <dc:subject/>
  <dc:title>Concurrency 5</dc:title>
</cp:coreProperties>
</file>