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FFCA-DF36-4B16-8EFB-145FAA093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DD0F-7537-4325-8F66-0D2AD1FC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A29E-0319-4BF7-95D0-8BDC6EBA5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0843-4484-40F6-9965-E9000937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F0FD-5B4E-4B90-B18B-42334A7E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AA6C-4BAF-4F66-9884-4589B66E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3F4A-FB1E-433F-9F36-69495288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1217-4450-4BB4-B088-50E81663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6F7F-56EF-46A9-A441-0A3C4E67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C07A-C4D6-4234-82E8-57BDB275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C481-031F-4470-8C55-632C5BD5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DEA2-417D-4971-87B1-616C6D25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5651-3513-4073-9EE3-C90AE4D0412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cy 8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3152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-calculus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Comic Sans MS"/>
              </a:rPr>
              <a:t>Note: the material of today’s lecture is partly from</a:t>
            </a: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Comic Sans MS"/>
              </a:rPr>
              <a:t>R. Milner, J. Parrow, D. Walker. Modal Logics for Mobile Processes. </a:t>
            </a:r>
            <a:r>
              <a:rPr b="0" i="1" lang="en-US" sz="1400" spc="-1" strike="noStrike">
                <a:solidFill>
                  <a:srgbClr val="990033"/>
                </a:solidFill>
                <a:latin typeface="Comic Sans MS"/>
              </a:rPr>
              <a:t>Theoretical Computer Science</a:t>
            </a:r>
            <a:r>
              <a:rPr b="0" lang="en-US" sz="14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990033"/>
                </a:solidFill>
                <a:latin typeface="Comic Sans MS"/>
              </a:rPr>
              <a:t>114</a:t>
            </a:r>
            <a:r>
              <a:rPr b="0" lang="en-US" sz="1400" spc="-1" strike="noStrike">
                <a:solidFill>
                  <a:srgbClr val="990033"/>
                </a:solidFill>
                <a:latin typeface="Comic Sans MS"/>
              </a:rPr>
              <a:t>:149-171, 1993. http://www.sics.se/~joachim/modmob.ps.Z</a:t>
            </a:r>
            <a:endParaRPr b="0" lang="en-US" sz="14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77440" y="1623960"/>
            <a:ext cx="84106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Similar to CCS with value passing, but values are channel names, and recursion is replaced by replication ( ! 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4" marL="2171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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action prefixes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input, output, silent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x, y are channel name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in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refix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sum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striction,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plica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93720" y="2584440"/>
            <a:ext cx="3168720" cy="365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422360" y="3774960"/>
            <a:ext cx="2305080" cy="21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BD2D-0F33-4285-BEC3-B4B90AD2F3E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: syntax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Names: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Free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Bound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cc00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Input and restriction are bind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Exercise: give the formal definition of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ample: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lpha conversion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ample: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14640" y="1662120"/>
            <a:ext cx="687240" cy="291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152800" y="2392200"/>
            <a:ext cx="649080" cy="233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998720" y="3697200"/>
            <a:ext cx="4992480" cy="665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998720" y="5079960"/>
            <a:ext cx="4800600" cy="682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2114640" y="2046240"/>
            <a:ext cx="666720" cy="230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5570640" y="3006720"/>
            <a:ext cx="2012760" cy="23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91FB-ABB6-4B3B-BC2B-BE5C2D9FBE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calculus: structural equival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1520" y="1585800"/>
            <a:ext cx="81471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Introduced to simplify the  description of the operational semantics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If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mr10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         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then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!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!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Some presentations include other equivalences, for instance: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0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0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,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y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y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 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if 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: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2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fn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 if 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: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2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fn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 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</a:rPr>
              <a:t>(scope extrusion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B7A5-F03D-4B2D-9363-52796C5C2D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lculus: operational semantic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The early operational semantics of the </a:t>
            </a:r>
            <a:r>
              <a:rPr b="0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-calculus is defined as a labeled transition system. Transitions have the form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Here  </a:t>
            </a:r>
            <a:r>
              <a:rPr b="0" i="1" lang="en-US" sz="1800" spc="-1" strike="noStrike">
                <a:solidFill>
                  <a:srgbClr val="3333ff"/>
                </a:solidFill>
                <a:latin typeface="cmr10"/>
              </a:rPr>
              <a:t>P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  and  </a:t>
            </a:r>
            <a:r>
              <a:rPr b="0" i="1" lang="en-US" sz="1800" spc="-1" strike="noStrike">
                <a:solidFill>
                  <a:srgbClr val="3333ff"/>
                </a:solidFill>
                <a:latin typeface="cmr10"/>
              </a:rPr>
              <a:t>Q 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 are processes and </a:t>
            </a:r>
            <a:r>
              <a:rPr b="0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 is an action, where actions are defined as follows: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727440" y="2392200"/>
            <a:ext cx="990720" cy="317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77960" y="3743280"/>
            <a:ext cx="4494240" cy="187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5207-09E9-4715-942F-FE6AB93D63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us: early operational seman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75040" y="5003640"/>
            <a:ext cx="3417840" cy="641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5760" y="1863720"/>
            <a:ext cx="4019400" cy="2913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533840" y="1816200"/>
            <a:ext cx="3917880" cy="288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D826-DB7D-498D-9794-3B0C3BE139E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culus: early bisimul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mic Sans MS"/>
              </a:rPr>
              <a:t>Question: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is </a:t>
            </a:r>
            <a:r>
              <a:rPr b="0" lang="en-US" sz="1600" spc="-1" strike="noStrike">
                <a:solidFill>
                  <a:srgbClr val="3333ff"/>
                </a:solidFill>
                <a:latin typeface="cmsy10"/>
              </a:rPr>
              <a:t>»</a:t>
            </a:r>
            <a:r>
              <a:rPr b="0" lang="en-US" sz="1600" spc="-1" strike="noStrike" baseline="-25000">
                <a:solidFill>
                  <a:srgbClr val="3333ff"/>
                </a:solidFill>
                <a:latin typeface="Comic Sans MS"/>
              </a:rPr>
              <a:t>E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a congruence?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Comic Sans MS"/>
              </a:rPr>
              <a:t>Answer: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cc0066"/>
                </a:solidFill>
                <a:latin typeface="Comic Sans MS"/>
              </a:rPr>
              <a:t>No.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Example: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77920" y="5248440"/>
            <a:ext cx="4249800" cy="801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77880" y="1522440"/>
            <a:ext cx="7738920" cy="27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1F1E-0818-41F8-802D-077BF232AE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culus: late semantic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late operational semantics is obtained by replacing rules 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  <a:ea typeface="Arial"/>
              </a:rPr>
              <a:t>E-Input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and 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  <a:ea typeface="Arial"/>
              </a:rPr>
              <a:t>E-Com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by the following: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68320" y="2200320"/>
            <a:ext cx="5453280" cy="665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93640" y="3414600"/>
            <a:ext cx="6921720" cy="246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CAFB-D419-4F67-AB5D-A01626FA9E2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te vs early bisimu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Late bisimulation is strictly more discriminating than early bisimulation.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Example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54120" y="2852640"/>
            <a:ext cx="7181640" cy="246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B546-7BED-4FC0-995B-D391BE07A90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3-11-23T08:15:47Z</dcterms:modified>
  <cp:revision>63</cp:revision>
  <dc:subject/>
  <dc:title>Concurrency 5</dc:title>
</cp:coreProperties>
</file>