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485-0A1E-402E-B7BF-B0ECB18A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C5E-F5BC-4029-AA68-3FE94839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418-EF19-482B-98F3-50D90FEB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249-816A-45A1-B267-6121C425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C29-B44C-4B44-BC73-746AF446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118-D043-4C8E-A51F-192E5C55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018-5119-4ADB-AA63-520286CB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11A-248E-4D10-B975-22D56EA0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86E-E8B0-404C-AB37-08620F4A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636-31D6-4A31-AFD9-A0B6D02F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859-C2BD-41C0-B11C-FB036980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722-2092-4548-802E-CB824BE3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84CF-83CF-4A0F-9E58-DB70599982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Note: the material of today’s lecture is partly from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R. Milner, J. Parrow, D. Walker. Modal Logics for Mobile Processes. </a:t>
            </a:r>
            <a:r>
              <a:rPr b="0" i="1" lang="en-US" sz="1400" spc="-1" strike="noStrike">
                <a:solidFill>
                  <a:srgbClr val="990033"/>
                </a:solidFill>
                <a:latin typeface="Comic Sans MS"/>
              </a:rPr>
              <a:t>Theoretical Computer Science</a:t>
            </a: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990033"/>
                </a:solidFill>
                <a:latin typeface="Comic Sans MS"/>
              </a:rPr>
              <a:t>114</a:t>
            </a: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:149-171, 1993. http://www.sics.se/~joachim/modmob.ps.Z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694-6000-4831-956C-BA8953BA4A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998720" y="3697200"/>
            <a:ext cx="499248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998720" y="5079960"/>
            <a:ext cx="4800600" cy="68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A26-EFF7-4C38-A748-7CA825AB88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1CE-6FEE-426F-8526-17B771D3D8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early operational semantics of the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8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8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is an action, where actions are defined as follows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27440" y="2392200"/>
            <a:ext cx="990720" cy="317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77960" y="3743280"/>
            <a:ext cx="4494240" cy="18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09C-E372-47F7-BAD4-098528DF0A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operational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75040" y="5003640"/>
            <a:ext cx="3417840" cy="64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5760" y="1863720"/>
            <a:ext cx="4019400" cy="2913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33840" y="1816200"/>
            <a:ext cx="3917880" cy="288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4D6-7E32-41C5-9D8D-9E93E519F46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Question: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</a:t>
            </a:r>
            <a:r>
              <a:rPr b="0" lang="en-US" sz="1600" spc="-1" strike="noStrike">
                <a:solidFill>
                  <a:srgbClr val="3333ff"/>
                </a:solidFill>
                <a:latin typeface="cmsy10"/>
              </a:rPr>
              <a:t>»</a:t>
            </a:r>
            <a:r>
              <a:rPr b="0" lang="en-US" sz="1600" spc="-1" strike="noStrike" baseline="-25000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 congruence?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Example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77920" y="5248440"/>
            <a:ext cx="4249800" cy="801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AA4-8ED1-44B8-B488-802192F667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late operational semantics is obtained by replacing rules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E-Input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nd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E-Com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by the following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8320" y="2200320"/>
            <a:ext cx="5453280" cy="66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93640" y="3414600"/>
            <a:ext cx="6921720" cy="24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3D8-161C-4A68-83FB-808C2D7C14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4120" y="2852640"/>
            <a:ext cx="7181640" cy="24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32E-8C4B-4425-BCCB-E12B428084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08:15:47Z</dcterms:modified>
  <cp:revision>63</cp:revision>
  <dc:subject/>
  <dc:title>Concurrency 5</dc:title>
</cp:coreProperties>
</file>