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8C3-CEB9-4F5C-A42E-EA943A25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8D9-817F-4777-B634-ABE7DEC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070-C19D-429F-AC1F-9D7E0C29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03D-A356-49DE-B71E-EA145EF3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03E-777A-4F5A-9E5A-B56A46F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CB1-6E06-4A55-B8FA-7E7F87C0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B50-E950-49D1-A3FB-76B7D7D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FCA-7E36-4850-80EE-67664434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FD7-0D14-46BA-9F3E-AA4025E0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75F-B59F-4B48-9DB1-094C253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A44-7A0F-47E4-9809-A06CC9B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338-B685-4562-8308-E350838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3A23-51F7-4846-89AE-92CE852F08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Note: the material of today’s lecture is partly from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R. Milner, J. Parrow, D. Walker. Modal Logics for Mobile Processes. </a:t>
            </a:r>
            <a:r>
              <a:rPr b="0" i="1" lang="en-US" sz="1400" spc="-1" strike="noStrike">
                <a:solidFill>
                  <a:srgbClr val="990033"/>
                </a:solidFill>
                <a:latin typeface="Comic Sans MS"/>
              </a:rPr>
              <a:t>Theoretical Computer Science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990033"/>
                </a:solidFill>
                <a:latin typeface="Comic Sans MS"/>
              </a:rPr>
              <a:t>114</a:t>
            </a: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:149-171, 1993. http://www.sics.se/~joachim/modmob.ps.Z</a:t>
            </a:r>
            <a:endParaRPr b="0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A93-D9F7-470F-A3DF-E8CFFCB45F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98720" y="3697200"/>
            <a:ext cx="4992480" cy="66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998720" y="5079960"/>
            <a:ext cx="4800600" cy="68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B6D-3960-4FAE-AA98-A18D5A6311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: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3EC-41FC-470B-BC82-766DC08068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early operational semantics of the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8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is an action, where actions are defined as follows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7440" y="2392200"/>
            <a:ext cx="990720" cy="31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77960" y="3743280"/>
            <a:ext cx="4494240" cy="18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A00-0D84-4725-B05C-3BC2751FA7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operational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75040" y="5003640"/>
            <a:ext cx="341784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5760" y="1863720"/>
            <a:ext cx="401940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33840" y="1816200"/>
            <a:ext cx="3917880" cy="28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AA3-EBAF-42B3-8065-14C08EF654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Question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</a:t>
            </a:r>
            <a:r>
              <a:rPr b="0" lang="en-US" sz="1600" spc="-1" strike="noStrike">
                <a:solidFill>
                  <a:srgbClr val="3333ff"/>
                </a:solidFill>
                <a:latin typeface="cmsy10"/>
              </a:rPr>
              <a:t>»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 congruence?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Example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77920" y="5248440"/>
            <a:ext cx="4249800" cy="80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087-91D0-4179-9119-8B87B49EAF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late operational semantics is obtained by replacing rules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Input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Arial"/>
              </a:rPr>
              <a:t>E-Com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by the following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8320" y="2200320"/>
            <a:ext cx="5453280" cy="66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3640" y="3414600"/>
            <a:ext cx="692172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52D-9D54-4E4C-9DAB-EAD21373CA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4120" y="2852640"/>
            <a:ext cx="7181640" cy="24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D45-8EBE-4064-ACF9-1FB85539DC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08:15:47Z</dcterms:modified>
  <cp:revision>63</cp:revision>
  <dc:subject/>
  <dc:title>Concurrency 5</dc:title>
</cp:coreProperties>
</file>