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uction.wav" ContentType="audio/x-wav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0E5-6CCB-4D25-AAAF-55E98F6B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74A-E7E5-486C-959D-D68B1F1B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3E1-C678-41DC-89D3-08EAF20A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192-F703-41AA-8152-321F8EA7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352-6554-4020-89AA-0D590C02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CEE-4BFA-4500-834D-7300F63E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FCB-079B-4236-9C10-CE629A2F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033-FFDC-4297-96DD-168F8B22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37D-49D3-4CF2-9A9D-C5056582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9CB-C16E-43B8-AB4C-758E9DE1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66E-49F9-4A78-BD99-47EE252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8B0-5E28-483F-ABDD-C429652D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C976-ECAC-4775-9CFA-D47F386186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pressive Power of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08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ransition system      P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can be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x(y)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y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(y), or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ule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nput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(y)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[z/y]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utpu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pen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35160" y="48117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50804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94360" y="31989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99320" y="385128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67520" y="469584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7120" y="531036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257-52A9-4A22-8681-21157BA2D3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Close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|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(P’ |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’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921040" y="2008080"/>
            <a:ext cx="33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Q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7484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580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89680" y="266076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D0D-2131-4726-ADD3-DA83A6E9AB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CCS  is  a Turing-complete formalism. We will show this by proving that we can simulate in CCS the Random Access Machines, which are a Turing-complete formalis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Definition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A RAM is a computational model composed b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finite set of registers 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which store natural numbers, one for each register, and can be updated (incremented or decremented) and tested for zero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program (1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... ,(m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where the 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’s are instructions of either of the following two form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cr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)   : add 1 to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ecJump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s)  : if the content of the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is not zero, then decreas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by one and go to next intruction. Otherwise jump to instruction 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DB9-6D22-4E86-A0BA-63830FE0A2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The state of a RAM   R  is a tuple (j,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) where j is the index of the current instruction and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are the contents of the regist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The execution is defined by a transition relation among states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(j’, 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Meaning that the RAM goes from state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to state (j’, 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 by executing the action I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 in the program of 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We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assume that the execution terminates if a special  instruction index is reached.  We also assume that the first register (r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) will initially contain the input of the program, and that it will contain the output when the program terminates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572-A476-4059-9701-884D2D7BB5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931680"/>
            <a:ext cx="864072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Theorem: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  Every computable function can be  expressed as the input-output relation computed by a RAM.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We define now a CCS process which encodes a given RAM  R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Each register is encoded by a labeled instance of a counter: 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 baseline="30000">
                <a:solidFill>
                  <a:srgbClr val="333399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repr. r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with content k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60000"/>
              </a:lnSpc>
              <a:spcBef>
                <a:spcPts val="349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The program of  R  is encoded as a set of CCS definitions: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Succ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+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zero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s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DecJump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,s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70000"/>
              </a:lnSpc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Assume input k, so the initial configuration is (1,k,0,...,0). The CCS process encoding R is: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[ (1,k,0,...,0) ]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R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= 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 (Instr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...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where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,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represent the vectors of the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,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zero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.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Theorem (correctness of the encoding):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   if and only if    [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 [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  <a:ea typeface="Arial"/>
              </a:rPr>
              <a:t>Proof: Exerci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6417000" y="504180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0E7-3CF3-4893-9C48-A2274B4247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3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4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81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7C6-A311-4C86-9F2D-0B3F9463DB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7"/>
            <a:endCxn id="10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103" idx="5"/>
            <a:endCxn id="10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F9F-B13A-4565-BD71-6F32FE6833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0"/>
            <a:endCxn id="118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7" idx="7"/>
            <a:endCxn id="118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8" idx="5"/>
            <a:endCxn id="120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F68-F4FF-494C-A587-DEE269695B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3" idx="6"/>
            <a:endCxn id="134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7"/>
            <a:endCxn id="13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40" name=""/>
          <p:cNvCxnSpPr>
            <a:stCxn id="133" idx="5"/>
            <a:endCxn id="13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628-2D46-4017-9771-B77235B646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49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imilar to CCS with value passing, but values are channel names, and recursion is replaced by replication (!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::=  x(y) |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y |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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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+ P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x)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!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B3E-0450-417E-AB34-D5E5DF34FE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7:34:24Z</dcterms:modified>
  <cp:revision>44</cp:revision>
  <dc:subject/>
  <dc:title>Concurrency 5</dc:title>
</cp:coreProperties>
</file>