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uction.wav" ContentType="audio/x-wav"/>
  <Override PartName="/ppt/media/pu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A024-A1D1-44CC-9800-65EB027C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F4FF-3755-4449-AD1D-B28E7B7C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FD49-047B-497B-B64D-438FA315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4FF5-18F5-45F8-B6DB-28D8D51D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A52-DC6E-4177-9097-6B7EF8E6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5B96-DA4B-463D-88CD-77A63384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CF81-0B0A-476C-BE8E-9ED70C55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6890-7B64-40C7-804A-2ECC9097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3632-482E-43D8-A5BC-09642B89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E46-2A18-4E72-B200-32C5B351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905D-9A62-44D9-AAA5-59FA2CA8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BAE-D725-4A27-96B7-5A658E6B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BE43-BF09-44BC-9E83-74391FD8E97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cy 7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3152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Expressive Power of CCS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catuscia@lix.polytechnique.fr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perational semantics (basic ide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08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ransition system      P </a:t>
            </a: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Q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here </a:t>
            </a:r>
            <a:r>
              <a:rPr b="0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can be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x(y), 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y, 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(y), or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ule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2" marL="98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Input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(y) . 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P[z/y]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Output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 . 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P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Open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___________________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) P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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’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3035160" y="4811760"/>
            <a:ext cx="18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P’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1508040"/>
            <a:ext cx="2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94360" y="319896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x(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99320" y="3851280"/>
            <a:ext cx="3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67520" y="4695840"/>
            <a:ext cx="3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97120" y="531036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4594-B7FD-4FAE-8CD8-77A9EC1D28B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perational semantics (basic ide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Close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___________________________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 | 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) Q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) (P’ |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’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2921040" y="2008080"/>
            <a:ext cx="33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P’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Q’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74840" y="196992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x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5800" y="196992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89680" y="266076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DE75-0790-4A1E-8010-33A7E80EFFB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167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Expressive Power of C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9240" y="1123560"/>
            <a:ext cx="818028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CCS  is  a Turing-complete formalism. We will show this by proving that we can simulate in CCS the Random Access Machines, which are a Turing-complete formalism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Definition: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A RAM is a computational model composed b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a finite set of registers r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,...,r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n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which store natural numbers, one for each register, and can be updated (incremented or decremented) and tested for zero.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A program (1,I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), ... ,(m,I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m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), where the I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j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’s are instructions of either of the following two forms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ncr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)   : add 1 to Register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DecJump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,s)  : if the content of the register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is not zero, then decrease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by one and go to next intruction. Otherwise jump to instruction 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3BF4-93C6-46B9-AEC1-A95349D7B78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167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Expressive Power of C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9240" y="1123560"/>
            <a:ext cx="818028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The state of a RAM   R  is a tuple (j, k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,...,k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n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) where j is the index of the current instruction and k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,...,k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n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are the contents of the register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The execution is defined by a transition relation among states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(j, k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,...,k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)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R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 (j’, k’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,...,k’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Meaning that the RAM goes from state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(j, k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,...,k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) to state (j’, k’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,...,k’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)  by executing the action I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 in the program of 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  <a:ea typeface="Arial"/>
              </a:rPr>
              <a:t>We</a:t>
            </a:r>
            <a:r>
              <a:rPr b="0" lang="en-US" sz="20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 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  <a:ea typeface="Arial"/>
              </a:rPr>
              <a:t>assume that the execution terminates if a special  instruction index is reached.  We also assume that the first register (r</a:t>
            </a:r>
            <a:r>
              <a:rPr b="0" lang="en-US" sz="20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1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  <a:ea typeface="Arial"/>
              </a:rPr>
              <a:t>) will initially contain the input of the program, and that it will contain the output when the program terminates.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3F9-2E01-47D6-AF19-71E4724BC6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1880" y="125280"/>
            <a:ext cx="791712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Expressive Power of C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7760" y="931680"/>
            <a:ext cx="8640720" cy="53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Comic Sans MS"/>
                <a:ea typeface="Arial"/>
              </a:rPr>
              <a:t>Theorem:</a:t>
            </a:r>
            <a:r>
              <a:rPr b="0" lang="en-US" sz="1800" spc="-1" strike="noStrike">
                <a:solidFill>
                  <a:srgbClr val="990033"/>
                </a:solidFill>
                <a:latin typeface="Comic Sans MS"/>
                <a:ea typeface="Arial"/>
              </a:rPr>
              <a:t>  Every computable function can be  expressed as the input-output relation computed by a RAM.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  <a:ea typeface="Arial"/>
              </a:rPr>
              <a:t>We define now a CCS process which encodes a given RAM  R.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  <a:ea typeface="Arial"/>
              </a:rPr>
              <a:t>Each register is encoded by a labeled instance of a counter: 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 baseline="30000">
                <a:solidFill>
                  <a:srgbClr val="333399"/>
                </a:solidFill>
                <a:latin typeface="Comic Sans MS"/>
                <a:ea typeface="Arial"/>
              </a:rPr>
              <a:t>(k)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  <a:ea typeface="Arial"/>
              </a:rPr>
              <a:t> repr. r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  <a:ea typeface="Arial"/>
              </a:rPr>
              <a:t> with content k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-282960">
              <a:lnSpc>
                <a:spcPct val="60000"/>
              </a:lnSpc>
              <a:spcBef>
                <a:spcPts val="349"/>
              </a:spcBef>
              <a:buClr>
                <a:srgbClr val="00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The program of  R  is encoded as a set of CCS definitions: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Inst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j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>
                <a:solidFill>
                  <a:srgbClr val="006600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 u="sng">
                <a:solidFill>
                  <a:srgbClr val="006600"/>
                </a:solidFill>
                <a:uFillTx/>
                <a:latin typeface="Comic Sans MS"/>
                <a:ea typeface="Arial"/>
              </a:rPr>
              <a:t>inc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.Inst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i+1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   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     if  I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i 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= Succ(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) in R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Inst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j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>
                <a:solidFill>
                  <a:srgbClr val="006600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 u="sng">
                <a:solidFill>
                  <a:srgbClr val="006600"/>
                </a:solidFill>
                <a:uFillTx/>
                <a:latin typeface="Comic Sans MS"/>
                <a:ea typeface="Arial"/>
              </a:rPr>
              <a:t>dec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.Inst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i+1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+ </a:t>
            </a:r>
            <a:r>
              <a:rPr b="0" lang="en-US" sz="1400" spc="-1" strike="noStrike" u="sng">
                <a:solidFill>
                  <a:srgbClr val="006600"/>
                </a:solidFill>
                <a:uFillTx/>
                <a:latin typeface="Comic Sans MS"/>
                <a:ea typeface="Arial"/>
              </a:rPr>
              <a:t>zero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.Inst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s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      if  I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i 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= DecJump(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,s) in R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-282960">
              <a:lnSpc>
                <a:spcPct val="70000"/>
              </a:lnSpc>
              <a:spcBef>
                <a:spcPts val="349"/>
              </a:spcBef>
              <a:buClr>
                <a:srgbClr val="33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Assume input k, so the initial configuration is (1,k,0,...,0). The CCS process encoding R is: 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[ (1,k,0,...,0) ]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R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= (</a:t>
            </a:r>
            <a:r>
              <a:rPr b="0" lang="en-US" sz="1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inc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)(</a:t>
            </a:r>
            <a:r>
              <a:rPr b="0" lang="en-US" sz="1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dec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)(</a:t>
            </a:r>
            <a:r>
              <a:rPr b="0" lang="en-US" sz="1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zero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) (Instr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| C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r>
              <a:rPr b="0" lang="en-US" sz="1400" spc="-1" strike="noStrike" baseline="30000">
                <a:solidFill>
                  <a:srgbClr val="3333ff"/>
                </a:solidFill>
                <a:latin typeface="Comic Sans MS"/>
                <a:ea typeface="Arial"/>
              </a:rPr>
              <a:t>(k)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| C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2</a:t>
            </a:r>
            <a:r>
              <a:rPr b="0" lang="en-US" sz="1400" spc="-1" strike="noStrike" baseline="30000">
                <a:solidFill>
                  <a:srgbClr val="3333ff"/>
                </a:solidFill>
                <a:latin typeface="Comic Sans MS"/>
                <a:ea typeface="Arial"/>
              </a:rPr>
              <a:t>(0)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| ... | C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n</a:t>
            </a:r>
            <a:r>
              <a:rPr b="0" lang="en-US" sz="1400" spc="-1" strike="noStrike" baseline="30000">
                <a:solidFill>
                  <a:srgbClr val="3333ff"/>
                </a:solidFill>
                <a:latin typeface="Comic Sans MS"/>
                <a:ea typeface="Arial"/>
              </a:rPr>
              <a:t>(0)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)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where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inc,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dec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and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zero 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represent the vectors of the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 u="sng">
                <a:solidFill>
                  <a:srgbClr val="3333ff"/>
                </a:solidFill>
                <a:uFillTx/>
                <a:latin typeface="Comic Sans MS"/>
                <a:ea typeface="Arial"/>
              </a:rPr>
              <a:t>inc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, </a:t>
            </a:r>
            <a:r>
              <a:rPr b="0" lang="en-US" sz="1400" spc="-1" strike="noStrike" u="sng">
                <a:solidFill>
                  <a:srgbClr val="3333ff"/>
                </a:solidFill>
                <a:uFillTx/>
                <a:latin typeface="Comic Sans MS"/>
                <a:ea typeface="Arial"/>
              </a:rPr>
              <a:t>dec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and zero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.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marL="339480" indent="-339480">
              <a:lnSpc>
                <a:spcPct val="120000"/>
              </a:lnSpc>
              <a:spcBef>
                <a:spcPts val="4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Theorem (correctness of the encoding):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 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(j, k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1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,...,k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n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) </a:t>
            </a:r>
            <a:r>
              <a:rPr b="0" lang="en-US" sz="16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R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* (j’, k’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1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,...,k’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n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)    if and only if    [(j, k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1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,...,k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n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)]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R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  </a:t>
            </a:r>
            <a:r>
              <a:rPr b="0" lang="en-US" sz="16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*  [(j’, k’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1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,...,k’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n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)]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R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Comic Sans MS"/>
                <a:ea typeface="Arial"/>
              </a:rPr>
              <a:t>Proof: Exercise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6417000" y="504180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Symbol"/>
                <a:ea typeface="Symbol"/>
              </a:rPr>
              <a:t>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8043-E592-4CB6-B88B-9DF77CF869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85960" y="1599840"/>
            <a:ext cx="7449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Milner, Parrow, Walker 1989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A concurrent calculus where the communication structure among existing processes can change over time.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mic Sans MS"/>
              </a:rPr>
              <a:t>Link mobility.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4" marL="21718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998720" y="3467160"/>
            <a:ext cx="1437840" cy="2133720"/>
            <a:chOff x="1998720" y="3467160"/>
            <a:chExt cx="1437840" cy="2133720"/>
          </a:xfrm>
        </p:grpSpPr>
        <p:sp>
          <p:nvSpPr>
            <p:cNvPr id="53" name=""/>
            <p:cNvSpPr/>
            <p:nvPr/>
          </p:nvSpPr>
          <p:spPr>
            <a:xfrm>
              <a:off x="2898720" y="5200920"/>
              <a:ext cx="53784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98720" y="544860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62320" y="545652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8720" y="5042160"/>
              <a:ext cx="36324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98720" y="358308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00240" y="3467160"/>
              <a:ext cx="17424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00240" y="3888000"/>
              <a:ext cx="867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00240" y="3902400"/>
              <a:ext cx="1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41200" y="410544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61960" y="3699000"/>
              <a:ext cx="536400" cy="114624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998720" y="3467160"/>
            <a:ext cx="4962600" cy="2141280"/>
            <a:chOff x="1998720" y="3467160"/>
            <a:chExt cx="4962600" cy="2141280"/>
          </a:xfrm>
        </p:grpSpPr>
        <p:sp>
          <p:nvSpPr>
            <p:cNvPr id="64" name=""/>
            <p:cNvSpPr/>
            <p:nvPr/>
          </p:nvSpPr>
          <p:spPr>
            <a:xfrm>
              <a:off x="4233960" y="520848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33960" y="54561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97560" y="546408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33960" y="504972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98720" y="358272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00240" y="34671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00240" y="388764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00240" y="39020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41560" y="41050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62320" y="3663720"/>
              <a:ext cx="1871640" cy="118908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97720" y="36050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99240" y="34891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99240" y="390996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99240" y="39243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40560" y="41274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2320" y="3582720"/>
              <a:ext cx="4235400" cy="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989000" y="3479760"/>
            <a:ext cx="4962240" cy="2133360"/>
            <a:chOff x="1989000" y="3479760"/>
            <a:chExt cx="4962240" cy="2133360"/>
          </a:xfrm>
        </p:grpSpPr>
        <p:sp>
          <p:nvSpPr>
            <p:cNvPr id="81" name=""/>
            <p:cNvSpPr/>
            <p:nvPr/>
          </p:nvSpPr>
          <p:spPr>
            <a:xfrm>
              <a:off x="4887720" y="521316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87720" y="546084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1320" y="54687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87720" y="505440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89000" y="359532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90520" y="34797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90520" y="390024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90520" y="39146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31840" y="41176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87640" y="36176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89520" y="35017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89520" y="392256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89520" y="39369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30840" y="41400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5366880" y="3710880"/>
              <a:ext cx="1263960" cy="114156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882880" y="4772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17960" y="3583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729A-6290-49D9-90C6-71740DE985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102" idx="7"/>
            <a:endCxn id="103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06" name=""/>
          <p:cNvCxnSpPr>
            <a:stCxn id="103" idx="5"/>
            <a:endCxn id="104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66640" y="554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FF66-6EB6-4BE2-998E-815477B372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7" idx="0"/>
            <a:endCxn id="118" idx="2"/>
          </p:cNvCxnSpPr>
          <p:nvPr/>
        </p:nvCxnSpPr>
        <p:spPr>
          <a:xfrm flipH="1" flipV="1" rot="5400000">
            <a:off x="3352320" y="4214160"/>
            <a:ext cx="986760" cy="102780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388680" y="407196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7" idx="7"/>
            <a:endCxn id="118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22" name=""/>
          <p:cNvCxnSpPr>
            <a:stCxn id="118" idx="5"/>
            <a:endCxn id="120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21B2-7876-4068-A477-6FC21EC614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33" idx="6"/>
            <a:endCxn id="134" idx="7"/>
          </p:cNvCxnSpPr>
          <p:nvPr/>
        </p:nvCxnSpPr>
        <p:spPr>
          <a:xfrm>
            <a:off x="4635000" y="4235400"/>
            <a:ext cx="1019880" cy="102312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5384160" y="422424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471480" y="5344920"/>
            <a:ext cx="1948320" cy="1080"/>
          </a:xfrm>
          <a:prstGeom prst="straightConnector1">
            <a:avLst/>
          </a:prstGeom>
          <a:ln w="28440">
            <a:solidFill>
              <a:srgbClr val="990033"/>
            </a:solidFill>
            <a:miter/>
          </a:ln>
        </p:spPr>
      </p:cxnSp>
      <p:sp>
        <p:nvSpPr>
          <p:cNvPr id="137" name=""/>
          <p:cNvSpPr/>
          <p:nvPr/>
        </p:nvSpPr>
        <p:spPr>
          <a:xfrm>
            <a:off x="4369680" y="534528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8" idx="7"/>
            <a:endCxn id="133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40" name=""/>
          <p:cNvCxnSpPr>
            <a:stCxn id="133" idx="5"/>
            <a:endCxn id="134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41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33920" y="527220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75080" y="3390840"/>
            <a:ext cx="3878280" cy="2573280"/>
          </a:xfrm>
          <a:custGeom>
            <a:avLst/>
            <a:gdLst/>
            <a:ahLst/>
            <a:rect l="l" t="t" r="r" b="b"/>
            <a:pathLst>
              <a:path w="2427" h="1802">
                <a:moveTo>
                  <a:pt x="109" y="1589"/>
                </a:moveTo>
                <a:cubicBezTo>
                  <a:pt x="4" y="1460"/>
                  <a:pt x="0" y="1185"/>
                  <a:pt x="36" y="1008"/>
                </a:cubicBezTo>
                <a:cubicBezTo>
                  <a:pt x="72" y="831"/>
                  <a:pt x="201" y="665"/>
                  <a:pt x="326" y="524"/>
                </a:cubicBezTo>
                <a:cubicBezTo>
                  <a:pt x="451" y="383"/>
                  <a:pt x="609" y="246"/>
                  <a:pt x="786" y="161"/>
                </a:cubicBezTo>
                <a:cubicBezTo>
                  <a:pt x="963" y="76"/>
                  <a:pt x="1210" y="0"/>
                  <a:pt x="1391" y="16"/>
                </a:cubicBezTo>
                <a:cubicBezTo>
                  <a:pt x="1572" y="32"/>
                  <a:pt x="1742" y="153"/>
                  <a:pt x="1875" y="258"/>
                </a:cubicBezTo>
                <a:cubicBezTo>
                  <a:pt x="2008" y="363"/>
                  <a:pt x="2112" y="484"/>
                  <a:pt x="2189" y="645"/>
                </a:cubicBezTo>
                <a:cubicBezTo>
                  <a:pt x="2266" y="806"/>
                  <a:pt x="2322" y="1061"/>
                  <a:pt x="2334" y="1226"/>
                </a:cubicBezTo>
                <a:cubicBezTo>
                  <a:pt x="2346" y="1391"/>
                  <a:pt x="2427" y="1552"/>
                  <a:pt x="2262" y="1637"/>
                </a:cubicBezTo>
                <a:cubicBezTo>
                  <a:pt x="2097" y="1722"/>
                  <a:pt x="1608" y="1710"/>
                  <a:pt x="1342" y="1734"/>
                </a:cubicBezTo>
                <a:cubicBezTo>
                  <a:pt x="1076" y="1758"/>
                  <a:pt x="875" y="1802"/>
                  <a:pt x="665" y="1782"/>
                </a:cubicBezTo>
                <a:cubicBezTo>
                  <a:pt x="455" y="1762"/>
                  <a:pt x="214" y="1718"/>
                  <a:pt x="109" y="1589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03D6-DF75-4A43-B3E0-FCA29205D9E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7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alculus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5496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Similar to CCS with value passing, but values are channel names, and recursion is replaced by replication (!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::=  x(y) |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y |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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out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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P  ::=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. P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 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P | 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P + P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u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  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x) 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! 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EA45-85B1-4076-958D-E98CC58DED8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3-11-23T17:34:24Z</dcterms:modified>
  <cp:revision>44</cp:revision>
  <dc:subject/>
  <dc:title>Concurrency 5</dc:title>
</cp:coreProperties>
</file>