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uction.wav" ContentType="audio/x-wav"/>
  <Override PartName="/ppt/media/pu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FDB-F81C-465D-8172-72A31E59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66E-6F24-45F7-92F8-F71ACD1A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C13-D532-428C-8075-5046DFFB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F8CB-C729-46E1-A103-9F53A8D7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6D1-C6BE-4F40-A941-B9FC27A9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FAA-3A45-4AB5-8600-633E290F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4A2-67B9-4438-A712-1C4FC6A9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FC0-34F6-4021-86D2-48816C1C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90F-827E-46EE-BA3B-1F69DC5A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DD7-3C87-4087-B94C-485EFE32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E89-8A42-4F1F-83AB-0259B271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FFD-DDD8-412E-98F2-D3173460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9495-293D-4103-A6F2-A0734001E7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cy 7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xpressive Power of CC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rational semantics (basic ide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08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ransition system      P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Q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can be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x(y),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y,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(y), or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ule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98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nput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(y) .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[z/y]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Output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 .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Open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P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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035160" y="4811760"/>
            <a:ext cx="18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’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150804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94360" y="31989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x(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99320" y="385128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67520" y="4695840"/>
            <a:ext cx="3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97120" y="531036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6C4-3E42-4977-A964-6F0E9CD581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rational semantics (basic ide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Close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_______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| 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Q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) (P’ |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’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921040" y="2008080"/>
            <a:ext cx="33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P’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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Q’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74840" y="196992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x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5800" y="196992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Comic Sans MS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89680" y="266076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E6E-31A0-449A-ACCC-C2548A80C4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167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9240" y="1123560"/>
            <a:ext cx="818028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CCS  is  a Turing-complete formalism. We will show this by proving that we can simulate in CCS the Random Access Machines, which are a Turing-complete formalis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Definition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A RAM is a computational model composed b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a finite set of registers r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r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which store natural numbers, one for each register, and can be updated (incremented or decremented) and tested for zero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A program (1,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, ... ,(m,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, where the 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’s are instructions of either of the following two form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ncr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)   : add 1 to Register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ecJump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,s)  : if the content of the register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is not zero, then decrease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by one and go to next intruction. Otherwise jump to instruction 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F57-5ED0-4BA9-AA59-1216B3B8A4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167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9240" y="1123560"/>
            <a:ext cx="818028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The state of a RAM   R  is a tuple (j, 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) where j is the index of the current instruction and 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are the contents of the registers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The execution is defined by a transition relation among states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(j, 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k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R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 (j’, k’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,...,k’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Meaning that the RAM goes from state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(j, k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,...,k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) to state (j’, k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,...,k’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)  by executing the action I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 in the program of 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We</a:t>
            </a:r>
            <a:r>
              <a:rPr b="0" lang="en-US" sz="20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assume that the execution terminates if a special  instruction index is reached.  We also assume that the first register (r</a:t>
            </a:r>
            <a:r>
              <a:rPr b="0" lang="en-US" sz="20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) will initially contain the input of the program, and that it will contain the output when the program terminates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0FB-1D9A-4E65-AC56-4AE868A455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xpressive Power of C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7760" y="931680"/>
            <a:ext cx="864072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Theorem:</a:t>
            </a:r>
            <a:r>
              <a:rPr b="0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  Every computable function can be  expressed as the input-output relation computed by a RAM.</a:t>
            </a:r>
            <a:r>
              <a:rPr b="0" lang="en-US" sz="2000" spc="-1" strike="noStrike">
                <a:solidFill>
                  <a:srgbClr val="990033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  <a:ea typeface="Arial"/>
              </a:rPr>
              <a:t>We define now a CCS process which encodes a given RAM  R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Each register is encoded by a labeled instance of a counter:  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 baseline="30000">
                <a:solidFill>
                  <a:srgbClr val="333399"/>
                </a:solidFill>
                <a:latin typeface="Comic Sans MS"/>
                <a:ea typeface="Arial"/>
              </a:rPr>
              <a:t>(k)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repr. r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with content k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60000"/>
              </a:lnSpc>
              <a:spcBef>
                <a:spcPts val="349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The program of  R  is encoded as a set of CCS definitions: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j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inc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+1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  if  I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= Succ(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) in R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j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dec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+1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+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Comic Sans MS"/>
                <a:ea typeface="Arial"/>
              </a:rPr>
              <a:t>zero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.Inst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s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       if  I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i 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= DecJump(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006600"/>
                </a:solidFill>
                <a:latin typeface="Comic Sans MS"/>
                <a:ea typeface="Arial"/>
              </a:rPr>
              <a:t>,s) in R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lnSpc>
                <a:spcPct val="70000"/>
              </a:lnSpc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Assume input k, so the initial configuration is (1,k,0,...,0). The CCS process encoding R is: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[ (1,k,0,...,0) ]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R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= 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in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de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(</a:t>
            </a:r>
            <a:r>
              <a:rPr b="0" lang="en-US" sz="1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zero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) (Instr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k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2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0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| ... | 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n</a:t>
            </a:r>
            <a:r>
              <a:rPr b="0" lang="en-US" sz="1400" spc="-1" strike="noStrike" baseline="30000">
                <a:solidFill>
                  <a:srgbClr val="3333ff"/>
                </a:solidFill>
                <a:latin typeface="Comic Sans MS"/>
                <a:ea typeface="Arial"/>
              </a:rPr>
              <a:t>(0)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)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where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inc,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dec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and 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zero 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represent the vectors of the</a:t>
            </a:r>
            <a:r>
              <a:rPr b="1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omic Sans MS"/>
                <a:ea typeface="Arial"/>
              </a:rPr>
              <a:t>in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, 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omic Sans MS"/>
                <a:ea typeface="Arial"/>
              </a:rPr>
              <a:t>dec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 and zero</a:t>
            </a:r>
            <a:r>
              <a:rPr b="0" lang="en-US" sz="1400" spc="-1" strike="noStrike" baseline="-25000">
                <a:solidFill>
                  <a:srgbClr val="3333ff"/>
                </a:solidFill>
                <a:latin typeface="Comic Sans MS"/>
                <a:ea typeface="Arial"/>
              </a:rPr>
              <a:t>h</a:t>
            </a:r>
            <a:r>
              <a:rPr b="0" lang="en-US" sz="1400" spc="-1" strike="noStrike">
                <a:solidFill>
                  <a:srgbClr val="3333ff"/>
                </a:solidFill>
                <a:latin typeface="Comic Sans MS"/>
                <a:ea typeface="Arial"/>
              </a:rPr>
              <a:t>.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Theorem (correctness of the encoding):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(j, 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 </a:t>
            </a: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* (j’, 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    if and only if    [(j, 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]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  </a:t>
            </a: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*  [(j’, 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1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,...,k’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n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  <a:ea typeface="Arial"/>
              </a:rPr>
              <a:t>)]</a:t>
            </a:r>
            <a:r>
              <a:rPr b="0" lang="en-US" sz="1600" spc="-1" strike="noStrike" baseline="-25000">
                <a:solidFill>
                  <a:srgbClr val="990033"/>
                </a:solidFill>
                <a:latin typeface="Comic Sans MS"/>
                <a:ea typeface="Arial"/>
              </a:rPr>
              <a:t>R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  <a:ea typeface="Arial"/>
              </a:rPr>
              <a:t>Proof: Exerci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6417000" y="504180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0505-C77F-437B-84FE-D6B3C30F03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3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4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81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785-6AB3-45F6-A646-1B46754265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2" idx="7"/>
            <a:endCxn id="103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6" name=""/>
          <p:cNvCxnSpPr>
            <a:stCxn id="103" idx="5"/>
            <a:endCxn id="104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36A-FE82-40BA-9FA7-61F2D7B471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0"/>
            <a:endCxn id="118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7" idx="7"/>
            <a:endCxn id="118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2" name=""/>
          <p:cNvCxnSpPr>
            <a:stCxn id="118" idx="5"/>
            <a:endCxn id="120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4D9-AF63-4601-BB9B-DCF7F6AF26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3" idx="6"/>
            <a:endCxn id="134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7"/>
            <a:endCxn id="133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40" name=""/>
          <p:cNvCxnSpPr>
            <a:stCxn id="133" idx="5"/>
            <a:endCxn id="134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DD0-7CDD-4E60-AEFC-CDAA90224B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549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imilar to CCS with value passing, but values are channel names, and recursion is replaced by replication (!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::=  x(y) |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y |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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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P + P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x)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! P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currency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1A9-AF84-4F83-97EF-E8790DBD99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Novembr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3-11-23T17:34:24Z</dcterms:modified>
  <cp:revision>44</cp:revision>
  <dc:subject/>
  <dc:title>Concurrency 5</dc:title>
</cp:coreProperties>
</file>