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D24-DFB9-47D1-838D-294F5778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000-CE1D-45A9-B00A-7B69B3C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67D-1EBC-4557-966E-EBF0D13A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33D-7233-42A9-82B3-AD9CFBC5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228-3087-47E2-956C-9488A67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BAF-217C-490B-96BC-79FCE20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C15-AD6B-4D02-9703-42D34C4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FDC-8F97-48FC-9BE4-AA2EAD89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EE7-C3A7-49B5-AD71-089EF47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0A9-043C-45C7-B6F9-D8E8AC5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B40-E81E-47C1-8C20-73D719B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FB8-021F-4956-BB6C-D2DEEA9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37C-F3CC-4741-BB06-408DF03215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6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pecification and Verification in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t is possible in CCS to create structures which grow and shrink dynamically. Examples include unbounded queues and stacks, and counters.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pecification of a Counte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 counter is an object that can b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ested for zero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zero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cremented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in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ecremented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Comic Sans MS"/>
              </a:rPr>
              <a:t>dec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zero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inc.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+ dec. Coun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 &gt; 0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D41-B6F6-490B-8144-F9B30435B8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 A structure obtained by linking together a process B and n copies of a process C specifi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B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B^C) + zero.B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nc.(C^C) + dec.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D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d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C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.B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P^Q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i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z’)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 d’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(P(z,d,i’,z’,d’) | Q(z’,d’, inc,zero,dec)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  <a:ea typeface="Arial"/>
              </a:rPr>
              <a:t>Note: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B, C and D stand for B(z,d,inc,zero,dec), C(z,d,inc,zero,dec), and D(z,d,inc,zero,dec) respectively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  <a:ea typeface="Arial"/>
              </a:rPr>
              <a:t>(P^Q) stands for (P^Q)(z,d,inc,zero,dec).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:   ^ is associative, i.e.   P^(Q^R)  =   (P^Q)^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568920" y="2698920"/>
            <a:ext cx="922320" cy="960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660760"/>
            <a:ext cx="730080" cy="99360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652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248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6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68920" y="34290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1120" y="30830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7520" y="2814480"/>
            <a:ext cx="75960" cy="7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91240" y="312120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75680" y="342900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14560" y="26733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67920" y="30067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2360" y="3390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040" y="3429000"/>
            <a:ext cx="2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1800" y="2968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40960" y="3429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6560" y="296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40960" y="26226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84-E594-4D52-9688-FA7E9C5E13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390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mplementation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finition:   C</a:t>
            </a:r>
            <a:r>
              <a:rPr b="0" lang="en-US" sz="1600" spc="-1" strike="noStrike" baseline="30000">
                <a:solidFill>
                  <a:srgbClr val="333399"/>
                </a:solidFill>
                <a:latin typeface="Comic Sans MS"/>
              </a:rPr>
              <a:t>(n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B^C^C^...^C    (n times)  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heorem (Correctness): C</a:t>
            </a:r>
            <a:r>
              <a:rPr b="0" lang="en-US" sz="1800" spc="-1" strike="noStrike" baseline="30000">
                <a:solidFill>
                  <a:srgbClr val="cc0066"/>
                </a:solidFill>
                <a:latin typeface="Comic Sans MS"/>
              </a:rPr>
              <a:t>(n)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Count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roof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:   (1)    C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D^C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2)    B^D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B^B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(3)   B^B = B            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We can now prove that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zero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0)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an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= 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                    for n &gt; 0        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definition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C^C) + dec. (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^D)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expansion law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=  in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+1)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  <a:ea typeface="Arial"/>
              </a:rPr>
              <a:t> + dec. C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-1)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by the lemma abov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Hence 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  <a:ea typeface="Arial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 satisfies the same equations as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. By the unique solution law we can conclude 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1200" spc="-1" strike="noStrike" baseline="30000">
                <a:solidFill>
                  <a:srgbClr val="008000"/>
                </a:solidFill>
                <a:latin typeface="Comic Sans MS"/>
              </a:rPr>
              <a:t>(n)</a:t>
            </a:r>
            <a:r>
              <a:rPr b="0" lang="en-US" sz="1200" spc="-1" strike="noStrike">
                <a:solidFill>
                  <a:srgbClr val="008000"/>
                </a:solidFill>
                <a:latin typeface="Comic Sans MS"/>
              </a:rPr>
              <a:t> = Count</a:t>
            </a:r>
            <a:r>
              <a:rPr b="0" lang="en-US" sz="1200" spc="-1" strike="noStrike" baseline="-25000">
                <a:solidFill>
                  <a:srgbClr val="008000"/>
                </a:solidFill>
                <a:latin typeface="Comic Sans MS"/>
              </a:rPr>
              <a:t>n   </a:t>
            </a: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30B-6F1C-41FE-B724-0427AB7770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1,...,n are tasks identifiers. Tasks have to be executed repeatedly,in a cyclic order. There can be more than one task executed at the same time, but the next instance of Task i cannot start before previous instance has finished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pecification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We us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 the sign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r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to Taks k and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as the signal that Task k ha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erminated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ssume: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X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1,...,n } are the tasks in progres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Task i is next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cSpec(i,X)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ScSpec(i+1,XU{i}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. ScSpec(i,X-{k}) | k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}   if  i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952-2C8D-4A6D-B167-206ED32C7E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A distributed schedu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mplementation: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We build the scheduler, Sched, as a ring of n cells each linked to one task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ell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a.C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.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D + d.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b.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d.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ote: A stands for A(a,b,c,d), B stands for B(a,b,c,d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e will also use 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A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for B(a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b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, etc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Defin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...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 ( A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{ D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1}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Theorem 1 (Correctness of the implementation wrt the specification):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Sched = ScSpec(1,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190-B7A7-47E9-B866-4D3FCE91A0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he meaning of the various cells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: Task i is next, and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ext, but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but it is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: Task i is not next, and it is not ready to initi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efini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B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-{i} } )     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ched(i,X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D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U {i} } |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{ 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| m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 } )    if  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X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Arial"/>
              </a:rPr>
              <a:t>Proposition 2:    Sched(i,X) = ScSpec(i,X)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Theorem 1 is a particular case of Proposition 2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9F-9533-47B9-B602-6F61BFF06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162160"/>
            <a:ext cx="37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783400">
            <a:off x="6416280" y="254484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07080" y="1892160"/>
            <a:ext cx="1152720" cy="493920"/>
          </a:xfrm>
          <a:prstGeom prst="leftArrowCallout">
            <a:avLst>
              <a:gd name="adj1" fmla="val 25002"/>
              <a:gd name="adj2" fmla="val 25000"/>
              <a:gd name="adj3" fmla="val 3889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172-74C0-4B01-B311-05A29EA3F9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81600">
            <a:off x="6684840" y="30063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15200" y="25066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8B6-3223-4E88-ABBA-5D77B7B468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how it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76840" y="53103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600" y="507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8760" y="27385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556800">
            <a:off x="6877800" y="427176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040" y="189216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83440" y="354492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52B-3291-4858-91EE-7882D6D9F4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7760" y="240840"/>
            <a:ext cx="8493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the scheduler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 possible future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752480"/>
            <a:ext cx="43434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4290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13716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9810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54864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49528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42900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9810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37160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1371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7524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4680" y="2133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1880" y="3276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5360" y="16002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0520" y="27766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0120" y="16765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8200" y="38862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53360" y="5349960"/>
            <a:ext cx="7596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84800" y="5656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4965840"/>
            <a:ext cx="76320" cy="759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41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60920" y="534996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400" y="56944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0520" y="45036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80240" y="5079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5080" y="465768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45240" y="52722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7040" y="19303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36920" y="243036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11160" y="131580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200" y="20844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2122560"/>
            <a:ext cx="1152360" cy="493560"/>
          </a:xfrm>
          <a:prstGeom prst="leftArrowCallout">
            <a:avLst>
              <a:gd name="adj1" fmla="val 25002"/>
              <a:gd name="adj2" fmla="val 25000"/>
              <a:gd name="adj3" fmla="val 38913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E82-1861-43C9-8BD1-4A1872C554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cheduler: Proof of Correct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1520" y="1469520"/>
            <a:ext cx="826308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  <a:ea typeface="Arial"/>
              </a:rPr>
              <a:t>Proposition 2:    Sched(i,X) = ScSpec(i,X)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Proof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Lemma 3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1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D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A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2)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( E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| B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</a:rPr>
              <a:t>i+1 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Proof: By exapansion law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</a:rPr>
              <a:t>Lemma 4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Sched(i,X) =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i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Sched(i+1,XU{i}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+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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{ b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Comic Sans MS"/>
                <a:ea typeface="Arial"/>
              </a:rPr>
              <a:t>k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. Sched(i,X-{k}) | k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 }   if  i </a:t>
            </a:r>
            <a:r>
              <a:rPr b="0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</a:t>
            </a:r>
            <a:r>
              <a:rPr b="0" lang="en-US" sz="1400" spc="-1" strike="noStrike">
                <a:solidFill>
                  <a:srgbClr val="008000"/>
                </a:solidFill>
                <a:latin typeface="Comic Sans MS"/>
                <a:ea typeface="Arial"/>
              </a:rPr>
              <a:t> X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mic Sans MS"/>
                <a:ea typeface="Arial"/>
              </a:rPr>
              <a:t>Proof: By Expansion law and Lemma 3</a:t>
            </a:r>
            <a:endParaRPr b="0" lang="en-US" sz="12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From Lemma 4 and the Definition law we obtain that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Sched(i,X) = ScSpec(i,X)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□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6BD-FF46-4AE8-8E37-996E2CDAC5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6:06:16Z</dcterms:modified>
  <cp:revision>31</cp:revision>
  <dc:subject/>
  <dc:title>Concurrency 5</dc:title>
</cp:coreProperties>
</file>