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007-105C-480C-ABCC-129808B1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4300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520-7647-473B-A2C9-4FB70EBD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960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7C0-AAD7-4DA0-9C80-ABE98B17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952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20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952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20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F93-2F1C-4114-8F4B-46E9FF87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B6C-7173-4C08-8170-523F543E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75E-A058-49B4-815D-DFBE6F8C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7AC-2629-4AEA-B8E8-5B6F7804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857-A138-4D62-B670-B604D587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9296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8AE-BF9A-481C-B62B-3CF396A6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58E-1782-48AE-8B1C-7474EF7F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960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630-D6EA-445B-832C-4C1B0DCE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B40-8814-4A4E-8B48-5A6A6470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40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520" y="6534000"/>
            <a:ext cx="28195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19880"/>
            <a:ext cx="181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F25E-3C68-4D3B-8A7F-4FC30F4CE81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papers/Prob_asy_pi/report.ps" TargetMode="External"/><Relationship Id="rId2" Type="http://schemas.openxmlformats.org/officeDocument/2006/relationships/hyperlink" Target="http://www.lix.polytechnique.fr/~catuscia/papers/Prob_asy_pi/report.ps" TargetMode="External"/><Relationship Id="rId3" Type="http://schemas.openxmlformats.org/officeDocument/2006/relationships/hyperlink" Target="http://www.lix.polytechnique.fr/~catuscia/papers/prob_enc/report.ps" TargetMode="External"/><Relationship Id="rId4" Type="http://schemas.openxmlformats.org/officeDocument/2006/relationships/hyperlink" Target="http://www.lix.polytechnique.fr/~catuscia/papers/prob_enc/report.ps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602920" cy="29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MPA School on Security</a:t>
            </a: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Specification and verification of randomized security protoc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rial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56880" y="424152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Catuscia Palamidessi, INRIA &amp; L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 of the cour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lix.polytechnique.fr/~catuscia/teaching/CIMPA_School_0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007-F582-48BB-86BF-19808E1D469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1040" y="2054160"/>
            <a:ext cx="8574120" cy="30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FA6-39B9-4AF3-A843-13F0E0A322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71600" y="1544760"/>
            <a:ext cx="8353440" cy="31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F35-3A51-4C33-B6A5-5AD1FEBCB8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732640" cy="339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B75-033B-4269-BD1F-205CA24DAC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 of the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5800" y="1692000"/>
            <a:ext cx="76806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41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Arial"/>
                <a:ea typeface="Arial"/>
              </a:rPr>
              <a:t>Overview of the basic notions of Probability theory and Measur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Probabilistic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2aa6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62a"/>
                </a:solidFill>
                <a:latin typeface="Arial"/>
                <a:ea typeface="Arial"/>
              </a:rPr>
              <a:t>Probabilistic </a:t>
            </a:r>
            <a:r>
              <a:rPr b="1" lang="en-US" sz="2800" spc="-1" strike="noStrike">
                <a:solidFill>
                  <a:srgbClr val="2aa62a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2aa62a"/>
                </a:solidFill>
                <a:latin typeface="Arial"/>
                <a:ea typeface="Arial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  <a:ea typeface="Arial"/>
              </a:rPr>
              <a:t>Applications to the specification and verification of randomized security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Anony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Fair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2D6-84D7-46EC-B378-6B249DA6B1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security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certain number of security protocols use randomized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0068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Anonym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Crowds [Reiter and Rubin,1998]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communication (anonymity of the sen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Onion Routing [Syverson, Goldschlag and Reed, 199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Freenet [Clarke et al. 200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information storage and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babilistic Contract Signing protocol [Ben-Or et al., 199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babilistic non-repudiation protocol [Markowitch and Roggeman, 199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artial Secrets Exchange protocol [Even, Goldreich and Lempel, 198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FB7-18AD-4F0C-84B9-B46ACD2243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5680"/>
            <a:ext cx="75438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feren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.M. Herescu, C. Palamidessi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obabilistic asynchronous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calcu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n J. Tiuryn, ed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. of FOSSACS 2000 (Part of ETAPS 200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ol. 1784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N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ges 146--160. Springer-Verlag, 2000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lix.polytechnique.fr/~catuscia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apers/Prob_asy_pi/report.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Palamidessi, O.M. Herescu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 Randomized Distributed Encoding of the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Calculus with Mixed Choic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ppear in Theoretical Computer Sci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hort version in Proc. of IFIP-TCS 20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ges 537-549, Kluwer, 200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www.lix.polytechnique.fr/~catuscia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papers/prob_enc/report.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F35-4493-41AE-B87D-A83B59EC02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riginally developed as an intermediate language for the fully distributed implementation of the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calc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mixed choice mechanism of the p-calculus cannot be implemented in a fully distributed way deterministically, but can be done in a randomized way. Correctness is achieved with probability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esently, we use it as a framework to model the correctness of security protoco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specify security properties which require a probabilistic formul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represent randomized 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prove their correctness, i.e. t verify that they satisfy the intended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1C0-5F4D-49C9-892F-0E21B4BBB0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143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milar to the asynchronous p-calculus of Amadio,Castellani and Sangiorgi, the only difference is that the input-guarded choice is probabi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2286000"/>
            <a:ext cx="6716520" cy="825480"/>
            <a:chOff x="685800" y="2286000"/>
            <a:chExt cx="6716520" cy="8254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685800" y="2286000"/>
              <a:ext cx="38462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336280" y="2743200"/>
              <a:ext cx="206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input | silent 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3429000"/>
            <a:ext cx="6758280" cy="2641680"/>
            <a:chOff x="685800" y="3429000"/>
            <a:chExt cx="6758280" cy="26416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85800" y="3429000"/>
              <a:ext cx="402588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338440" y="3886200"/>
              <a:ext cx="2105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in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probabilistic cho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parall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new 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re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79320" y="3429000"/>
            <a:ext cx="4025880" cy="26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7FE-420F-4DDC-A5B8-64F0E898F4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ed on the probabilistic automata of Segala and Ly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68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66"/>
                </a:solidFill>
                <a:latin typeface="Arial"/>
              </a:rPr>
              <a:t>nondeterministic and probabilist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7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00"/>
                </a:solidFill>
                <a:latin typeface="Arial"/>
              </a:rPr>
              <a:t>nondeterminism associated to a scheduler (adver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probabilistic behavior associated to the choice of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groups, probabilistic distributions,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486400" y="1676520"/>
            <a:ext cx="2903040" cy="2393640"/>
            <a:chOff x="5486400" y="1676520"/>
            <a:chExt cx="2903040" cy="2393640"/>
          </a:xfrm>
        </p:grpSpPr>
        <p:grpSp>
          <p:nvGrpSpPr>
            <p:cNvPr id="63" name=""/>
            <p:cNvGrpSpPr/>
            <p:nvPr/>
          </p:nvGrpSpPr>
          <p:grpSpPr>
            <a:xfrm>
              <a:off x="5489280" y="1676520"/>
              <a:ext cx="2900160" cy="2393280"/>
              <a:chOff x="5489280" y="1676520"/>
              <a:chExt cx="2900160" cy="2393280"/>
            </a:xfrm>
          </p:grpSpPr>
          <p:sp>
            <p:nvSpPr>
              <p:cNvPr id="64" name=""/>
              <p:cNvSpPr/>
              <p:nvPr/>
            </p:nvSpPr>
            <p:spPr>
              <a:xfrm flipH="1">
                <a:off x="5989320" y="177156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4920" y="177156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74920" y="177156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74920" y="177156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5582520" y="177156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81320" y="16765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928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95720" y="266220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03680" y="237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38560" y="266220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81360" y="201744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19640" y="198576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7019280" y="294624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27440" y="294624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10040" y="1946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64120" y="22208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075080" y="23302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34000" y="218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38640" y="203040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57640" y="388116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26040" y="388116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187760" y="28508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102080" y="3423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51360" y="32860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94240" y="326520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486400" y="1676520"/>
              <a:ext cx="2900160" cy="2393280"/>
              <a:chOff x="5486400" y="1676520"/>
              <a:chExt cx="2900160" cy="239328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5986080" y="177156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72400" y="177156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72400" y="177156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72400" y="177156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5580000" y="177156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78440" y="16765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8640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92840" y="26622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0080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35680" y="26622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78480" y="201744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016760" y="198576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016400" y="294624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24560" y="294624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07160" y="1946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61240" y="22208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72200" y="23302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31120" y="218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36120" y="203040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754760" y="388116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23160" y="388116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84880" y="285120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99200" y="3423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548480" y="32860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191360" y="326520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5989320" y="177156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5280" y="1771560"/>
              <a:ext cx="95688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5280" y="1771560"/>
              <a:ext cx="142200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5280" y="1771560"/>
              <a:ext cx="40608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582520" y="177156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1676520"/>
              <a:ext cx="18504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9280" y="237312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95720" y="2662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04040" y="237312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38920" y="2662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81360" y="2017800"/>
              <a:ext cx="16308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19640" y="1986120"/>
              <a:ext cx="30744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019280" y="2946240"/>
              <a:ext cx="26172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27440" y="2946240"/>
              <a:ext cx="52380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10040" y="1946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3760" y="22208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75080" y="23302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4000" y="218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38640" y="2030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58000" y="3881520"/>
              <a:ext cx="18504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26040" y="388152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87760" y="2851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02080" y="34243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1360" y="32860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94240" y="3265560"/>
              <a:ext cx="29016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696000" y="3946680"/>
            <a:ext cx="1621080" cy="536400"/>
          </a:xfrm>
          <a:custGeom>
            <a:avLst/>
            <a:gdLst/>
            <a:ahLst/>
            <a:rect l="l" t="t" r="r" b="b"/>
            <a:pathLst>
              <a:path w="1021" h="338">
                <a:moveTo>
                  <a:pt x="37" y="8"/>
                </a:moveTo>
                <a:cubicBezTo>
                  <a:pt x="24" y="60"/>
                  <a:pt x="0" y="147"/>
                  <a:pt x="52" y="180"/>
                </a:cubicBezTo>
                <a:cubicBezTo>
                  <a:pt x="83" y="228"/>
                  <a:pt x="127" y="237"/>
                  <a:pt x="181" y="245"/>
                </a:cubicBezTo>
                <a:cubicBezTo>
                  <a:pt x="255" y="239"/>
                  <a:pt x="323" y="229"/>
                  <a:pt x="397" y="238"/>
                </a:cubicBezTo>
                <a:cubicBezTo>
                  <a:pt x="417" y="251"/>
                  <a:pt x="431" y="265"/>
                  <a:pt x="448" y="281"/>
                </a:cubicBezTo>
                <a:cubicBezTo>
                  <a:pt x="456" y="308"/>
                  <a:pt x="454" y="338"/>
                  <a:pt x="484" y="310"/>
                </a:cubicBezTo>
                <a:cubicBezTo>
                  <a:pt x="493" y="280"/>
                  <a:pt x="505" y="276"/>
                  <a:pt x="534" y="267"/>
                </a:cubicBezTo>
                <a:cubicBezTo>
                  <a:pt x="567" y="232"/>
                  <a:pt x="626" y="229"/>
                  <a:pt x="671" y="224"/>
                </a:cubicBezTo>
                <a:cubicBezTo>
                  <a:pt x="743" y="233"/>
                  <a:pt x="811" y="231"/>
                  <a:pt x="880" y="209"/>
                </a:cubicBezTo>
                <a:cubicBezTo>
                  <a:pt x="887" y="204"/>
                  <a:pt x="893" y="199"/>
                  <a:pt x="901" y="195"/>
                </a:cubicBezTo>
                <a:cubicBezTo>
                  <a:pt x="908" y="192"/>
                  <a:pt x="916" y="192"/>
                  <a:pt x="923" y="188"/>
                </a:cubicBezTo>
                <a:cubicBezTo>
                  <a:pt x="955" y="168"/>
                  <a:pt x="976" y="135"/>
                  <a:pt x="1002" y="108"/>
                </a:cubicBezTo>
                <a:cubicBezTo>
                  <a:pt x="1007" y="94"/>
                  <a:pt x="1011" y="79"/>
                  <a:pt x="1016" y="65"/>
                </a:cubicBezTo>
                <a:cubicBezTo>
                  <a:pt x="1021" y="51"/>
                  <a:pt x="1007" y="36"/>
                  <a:pt x="1002" y="22"/>
                </a:cubicBezTo>
                <a:cubicBezTo>
                  <a:pt x="1000" y="15"/>
                  <a:pt x="995" y="0"/>
                  <a:pt x="995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2289240"/>
            <a:ext cx="870120" cy="823680"/>
          </a:xfrm>
          <a:custGeom>
            <a:avLst/>
            <a:gdLst/>
            <a:ahLst/>
            <a:rect l="l" t="t" r="r" b="b"/>
            <a:pathLst>
              <a:path w="548" h="519">
                <a:moveTo>
                  <a:pt x="65" y="0"/>
                </a:moveTo>
                <a:cubicBezTo>
                  <a:pt x="49" y="16"/>
                  <a:pt x="38" y="34"/>
                  <a:pt x="22" y="51"/>
                </a:cubicBezTo>
                <a:cubicBezTo>
                  <a:pt x="14" y="72"/>
                  <a:pt x="0" y="116"/>
                  <a:pt x="0" y="116"/>
                </a:cubicBezTo>
                <a:cubicBezTo>
                  <a:pt x="9" y="206"/>
                  <a:pt x="14" y="236"/>
                  <a:pt x="101" y="260"/>
                </a:cubicBezTo>
                <a:cubicBezTo>
                  <a:pt x="137" y="284"/>
                  <a:pt x="136" y="287"/>
                  <a:pt x="151" y="332"/>
                </a:cubicBezTo>
                <a:cubicBezTo>
                  <a:pt x="156" y="346"/>
                  <a:pt x="166" y="375"/>
                  <a:pt x="166" y="375"/>
                </a:cubicBezTo>
                <a:cubicBezTo>
                  <a:pt x="163" y="382"/>
                  <a:pt x="162" y="389"/>
                  <a:pt x="158" y="396"/>
                </a:cubicBezTo>
                <a:cubicBezTo>
                  <a:pt x="150" y="411"/>
                  <a:pt x="114" y="446"/>
                  <a:pt x="130" y="440"/>
                </a:cubicBezTo>
                <a:cubicBezTo>
                  <a:pt x="162" y="428"/>
                  <a:pt x="196" y="419"/>
                  <a:pt x="230" y="411"/>
                </a:cubicBezTo>
                <a:cubicBezTo>
                  <a:pt x="276" y="426"/>
                  <a:pt x="301" y="469"/>
                  <a:pt x="346" y="483"/>
                </a:cubicBezTo>
                <a:cubicBezTo>
                  <a:pt x="367" y="497"/>
                  <a:pt x="379" y="511"/>
                  <a:pt x="403" y="519"/>
                </a:cubicBezTo>
                <a:cubicBezTo>
                  <a:pt x="470" y="512"/>
                  <a:pt x="482" y="501"/>
                  <a:pt x="540" y="483"/>
                </a:cubicBezTo>
                <a:cubicBezTo>
                  <a:pt x="548" y="459"/>
                  <a:pt x="547" y="469"/>
                  <a:pt x="547" y="45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37480" y="2449440"/>
            <a:ext cx="857160" cy="628560"/>
          </a:xfrm>
          <a:custGeom>
            <a:avLst/>
            <a:gdLst/>
            <a:ahLst/>
            <a:rect l="l" t="t" r="r" b="b"/>
            <a:pathLst>
              <a:path w="540" h="396">
                <a:moveTo>
                  <a:pt x="0" y="382"/>
                </a:moveTo>
                <a:cubicBezTo>
                  <a:pt x="52" y="375"/>
                  <a:pt x="40" y="370"/>
                  <a:pt x="80" y="382"/>
                </a:cubicBezTo>
                <a:cubicBezTo>
                  <a:pt x="94" y="386"/>
                  <a:pt x="123" y="396"/>
                  <a:pt x="123" y="396"/>
                </a:cubicBezTo>
                <a:cubicBezTo>
                  <a:pt x="152" y="389"/>
                  <a:pt x="180" y="381"/>
                  <a:pt x="209" y="375"/>
                </a:cubicBezTo>
                <a:cubicBezTo>
                  <a:pt x="240" y="354"/>
                  <a:pt x="260" y="350"/>
                  <a:pt x="281" y="317"/>
                </a:cubicBezTo>
                <a:cubicBezTo>
                  <a:pt x="306" y="325"/>
                  <a:pt x="313" y="336"/>
                  <a:pt x="332" y="353"/>
                </a:cubicBezTo>
                <a:cubicBezTo>
                  <a:pt x="336" y="333"/>
                  <a:pt x="332" y="309"/>
                  <a:pt x="346" y="295"/>
                </a:cubicBezTo>
                <a:cubicBezTo>
                  <a:pt x="392" y="249"/>
                  <a:pt x="374" y="279"/>
                  <a:pt x="411" y="259"/>
                </a:cubicBezTo>
                <a:cubicBezTo>
                  <a:pt x="444" y="241"/>
                  <a:pt x="471" y="221"/>
                  <a:pt x="497" y="195"/>
                </a:cubicBezTo>
                <a:cubicBezTo>
                  <a:pt x="506" y="166"/>
                  <a:pt x="524" y="166"/>
                  <a:pt x="533" y="137"/>
                </a:cubicBezTo>
                <a:cubicBezTo>
                  <a:pt x="535" y="120"/>
                  <a:pt x="540" y="104"/>
                  <a:pt x="540" y="87"/>
                </a:cubicBezTo>
                <a:cubicBezTo>
                  <a:pt x="540" y="58"/>
                  <a:pt x="533" y="0"/>
                  <a:pt x="533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3124080"/>
            <a:ext cx="2057400" cy="2514600"/>
          </a:xfrm>
          <a:custGeom>
            <a:avLst/>
            <a:gdLst/>
            <a:ahLst/>
            <a:rect l="l" t="t" r="r" b="b"/>
            <a:pathLst>
              <a:path w="1296" h="1584">
                <a:moveTo>
                  <a:pt x="0" y="0"/>
                </a:moveTo>
                <a:cubicBezTo>
                  <a:pt x="100" y="452"/>
                  <a:pt x="200" y="904"/>
                  <a:pt x="336" y="1104"/>
                </a:cubicBezTo>
                <a:cubicBezTo>
                  <a:pt x="472" y="1304"/>
                  <a:pt x="656" y="1120"/>
                  <a:pt x="816" y="1200"/>
                </a:cubicBezTo>
                <a:cubicBezTo>
                  <a:pt x="976" y="1280"/>
                  <a:pt x="1216" y="1520"/>
                  <a:pt x="1296" y="158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4648320"/>
            <a:ext cx="1800" cy="990360"/>
          </a:xfrm>
          <a:custGeom>
            <a:avLst/>
            <a:gdLst/>
            <a:ahLst/>
            <a:rect l="l" t="t" r="r" b="b"/>
            <a:pathLst>
              <a:path w="1" h="624">
                <a:moveTo>
                  <a:pt x="0" y="624"/>
                </a:moveTo>
                <a:cubicBezTo>
                  <a:pt x="0" y="364"/>
                  <a:pt x="0" y="104"/>
                  <a:pt x="0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3124080"/>
            <a:ext cx="1346400" cy="2514600"/>
          </a:xfrm>
          <a:custGeom>
            <a:avLst/>
            <a:gdLst/>
            <a:ahLst/>
            <a:rect l="l" t="t" r="r" b="b"/>
            <a:pathLst>
              <a:path w="848" h="1584">
                <a:moveTo>
                  <a:pt x="528" y="0"/>
                </a:moveTo>
                <a:cubicBezTo>
                  <a:pt x="656" y="216"/>
                  <a:pt x="784" y="432"/>
                  <a:pt x="816" y="576"/>
                </a:cubicBezTo>
                <a:cubicBezTo>
                  <a:pt x="848" y="720"/>
                  <a:pt x="784" y="760"/>
                  <a:pt x="720" y="864"/>
                </a:cubicBezTo>
                <a:cubicBezTo>
                  <a:pt x="656" y="968"/>
                  <a:pt x="552" y="1080"/>
                  <a:pt x="432" y="1200"/>
                </a:cubicBezTo>
                <a:cubicBezTo>
                  <a:pt x="312" y="1320"/>
                  <a:pt x="72" y="1520"/>
                  <a:pt x="0" y="158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8400" y="5715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4EA-62AB-439A-9A65-917EE71205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124080" y="4114800"/>
            <a:ext cx="2445120" cy="1676160"/>
            <a:chOff x="3124080" y="4114800"/>
            <a:chExt cx="2445120" cy="1676160"/>
          </a:xfrm>
        </p:grpSpPr>
        <p:sp>
          <p:nvSpPr>
            <p:cNvPr id="150" name=""/>
            <p:cNvSpPr/>
            <p:nvPr/>
          </p:nvSpPr>
          <p:spPr>
            <a:xfrm>
              <a:off x="426708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548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5840" y="5638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3760" y="548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360" y="4267080"/>
              <a:ext cx="9907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962160" y="426708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9360" y="4267080"/>
              <a:ext cx="9144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04960" y="5370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77920" y="4740120"/>
              <a:ext cx="938160" cy="101520"/>
            </a:xfrm>
            <a:custGeom>
              <a:avLst/>
              <a:gdLst/>
              <a:ahLst/>
              <a:rect l="l" t="t" r="r" b="b"/>
              <a:pathLst>
                <a:path w="591" h="64">
                  <a:moveTo>
                    <a:pt x="0" y="0"/>
                  </a:moveTo>
                  <a:cubicBezTo>
                    <a:pt x="50" y="10"/>
                    <a:pt x="93" y="40"/>
                    <a:pt x="144" y="50"/>
                  </a:cubicBezTo>
                  <a:cubicBezTo>
                    <a:pt x="201" y="61"/>
                    <a:pt x="168" y="56"/>
                    <a:pt x="245" y="64"/>
                  </a:cubicBezTo>
                  <a:cubicBezTo>
                    <a:pt x="347" y="59"/>
                    <a:pt x="446" y="51"/>
                    <a:pt x="547" y="43"/>
                  </a:cubicBezTo>
                  <a:cubicBezTo>
                    <a:pt x="581" y="35"/>
                    <a:pt x="566" y="36"/>
                    <a:pt x="591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8080" y="475776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41120" y="495288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31840" y="495288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60240" y="51814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69720" y="53337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9040" y="50292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1603440"/>
            <a:ext cx="685800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0D0-8167-4285-B359-F7FCEB48E1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33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43A-92F7-4AF0-B278-A37E91C71C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21:34:05Z</dcterms:created>
  <dc:creator>INRIA </dc:creator>
  <dc:description/>
  <dc:language>en-US</dc:language>
  <cp:lastModifiedBy>INRIA </cp:lastModifiedBy>
  <dcterms:modified xsi:type="dcterms:W3CDTF">2005-02-02T00:32:44Z</dcterms:modified>
  <cp:revision>11</cp:revision>
  <dc:subject/>
  <dc:title>CIMPA School on Security   Specification and verification of randomized security protocols   Lecture 2</dc:title>
</cp:coreProperties>
</file>